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006-1F44-4906-8C81-8A2E04E6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D0B-023F-4542-9C73-474AE970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108-98D2-45F4-894D-0DA83C33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4C33-49EB-486E-9DD0-24BBCF8A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A69F-D88F-4D46-91D4-1DF4FCE7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6207-CE35-4450-A97C-F8AE0EF2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3EDD-CAC4-4640-AFB0-940330DE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CD01-59EE-492E-B8CF-6E148A79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8234-8148-4713-AE8B-08719256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D6CE-4C0E-4732-8D86-28DD9857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3988-EFAC-45DC-AF73-D9DB840C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F36-759F-46F8-8BB0-3F28BF6F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1590-236C-40F5-AD25-6384CF7E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A54B-2218-4B95-ADED-160C84C6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6E23-7511-4098-A94B-1288B459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2EC9-33F5-4AB8-828D-FFC67032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A6E4-B1FD-47B0-A895-CAB27405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021-1957-415C-A10D-6A9351BF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E28-1B1F-485D-83F2-296421AD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A73-1129-4735-A0D1-8063DE18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365-F41D-4EE0-A2DF-A77615FF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E20-5B47-4397-BE10-9FBEA630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5EC-C35F-40AF-8DEF-913248C3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91F-E750-4DC9-BEF2-2BB1A8C0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3E54-ACF7-4A64-9D3F-DBCB99195D0B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C37D-A183-4C77-A26B-6EF6E84BAA44}" type="slidenum">
              <a:rPr b="0" lang="ar-SA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&quot;Moonrise, Lake Powell, Utah&quot; © M.Webb Photograph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3124080" y="5105520"/>
            <a:ext cx="3353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 u="sng">
                <a:solidFill>
                  <a:srgbClr val="ccffcc"/>
                </a:solidFill>
                <a:uFillTx/>
                <a:latin typeface="Times New Roman"/>
              </a:rPr>
              <a:t>أحمد العساف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ffcc"/>
                </a:solidFill>
                <a:uFillTx/>
                <a:latin typeface="Times New Roman"/>
              </a:rPr>
              <a:t> 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228600" y="380880"/>
            <a:ext cx="4952880" cy="2438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ccc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ccffcc"/>
                </a:solidFill>
                <a:latin typeface="Times New Roman"/>
                <a:cs typeface="Arabic Transparent"/>
              </a:rPr>
              <a:t>المشكلات الإدارية </a:t>
            </a:r>
            <a:br>
              <a:rPr sz="5400"/>
            </a:br>
            <a:r>
              <a:rPr b="1" i="1" lang="ar-SA" sz="6000" spc="-1" strike="noStrike">
                <a:solidFill>
                  <a:srgbClr val="ccffcc"/>
                </a:solidFill>
                <a:latin typeface="Times New Roman"/>
                <a:cs typeface="Arabic Transparent"/>
              </a:rPr>
              <a:t>وكيفية</a:t>
            </a:r>
            <a:r>
              <a:rPr b="1" i="1" lang="ar-SA" sz="5400" spc="-1" strike="noStrike">
                <a:solidFill>
                  <a:srgbClr val="ccffcc"/>
                </a:solidFill>
                <a:latin typeface="Times New Roman"/>
                <a:ea typeface="Arabic Transparent"/>
              </a:rPr>
              <a:t> علاجها ؟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&quot;Thunderstorms over Santa Catalina Mountains, Tucson, Arizona&quot; © Kent Wood / Photo Research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04920" y="304920"/>
            <a:ext cx="8534160" cy="19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ccc"/>
                </a:solidFill>
                <a:latin typeface="Times New Roman"/>
              </a:rPr>
              <a:t>أساليب التعامل مع المشاكل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&quot;Blue Bonnets, Texas Hill Country,  Marble Falls, Texas&quot; © David Davi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334120" y="5276880"/>
            <a:ext cx="3809880" cy="3056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99"/>
                </a:solidFill>
                <a:latin typeface="Times New Roman"/>
              </a:rPr>
              <a:t>أسباب عدم مواجهة المشكلة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1" name="" descr="&quot;Sunset, Joshua Tree National Park, California&quot; © Kevin Powe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4495320" y="838080"/>
            <a:ext cx="441972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200" spc="-1" strike="noStrike">
                <a:solidFill>
                  <a:srgbClr val="ffd071"/>
                </a:solidFill>
                <a:latin typeface="Albertus Extra Bold"/>
                <a:cs typeface="Simplified Arabic"/>
              </a:rPr>
              <a:t>أخطاء في تحديد المشكلات</a:t>
            </a:r>
            <a:endParaRPr b="0" lang="en-US" sz="6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3640" y="-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971800" y="3123720"/>
            <a:ext cx="358128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76000"/>
          </a:bodyPr>
          <a:p>
            <a:pPr marL="260640" indent="0" algn="ctr" rtl="1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ffd071"/>
                </a:solidFill>
                <a:latin typeface="Albertus Extra Bold"/>
                <a:cs typeface="Simplified Arabic"/>
              </a:rPr>
              <a:t>أسلوب </a:t>
            </a:r>
            <a:endParaRPr b="0" lang="en-US" sz="6800" spc="-1" strike="noStrike">
              <a:solidFill>
                <a:srgbClr val="003366"/>
              </a:solidFill>
              <a:latin typeface="Times New Roman"/>
            </a:endParaRPr>
          </a:p>
          <a:p>
            <a:pPr marL="260640" indent="0" algn="ctr" rtl="1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ffd071"/>
                </a:solidFill>
                <a:latin typeface="Albertus Extra Bold"/>
                <a:cs typeface="Simplified Arabic"/>
              </a:rPr>
              <a:t>كبنر-تريجو للتحديد</a:t>
            </a:r>
            <a:endParaRPr b="0" lang="en-US" sz="6800" spc="-1" strike="noStrike">
              <a:solidFill>
                <a:srgbClr val="003366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9" name="" descr="&quot;Dreaming of a White Christmas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514600" y="1981080"/>
            <a:ext cx="2362320" cy="2743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3e2c7"/>
            </a:outerShdw>
          </a:effectLst>
        </p:spPr>
        <p:txBody>
          <a:bodyPr anchor="ctr">
            <a:normAutofit fontScale="66000"/>
          </a:bodyPr>
          <a:p>
            <a:pPr indent="0" algn="ctr" rtl="1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800000"/>
                </a:solidFill>
                <a:latin typeface="Albertus Extra Bold"/>
                <a:cs typeface="Simplified Arabic"/>
              </a:rPr>
              <a:t>أدوات مهمة في حـــل المشاكل</a:t>
            </a:r>
            <a:endParaRPr b="0" lang="en-US" sz="5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4" name="" descr="&quot;Golden Peaks of Rundle Mountain, Banff National Park, Alberta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914400" y="4952880"/>
            <a:ext cx="5562720" cy="190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a1d00"/>
            </a:outerShdw>
          </a:effectLst>
        </p:spPr>
        <p:txBody>
          <a:bodyPr anchor="ctr">
            <a:normAutofit fontScale="84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44f"/>
                </a:solidFill>
                <a:latin typeface="Times New Roman"/>
              </a:rPr>
              <a:t>من الذي يدعى لحل المشاكل ؟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9" name="" descr="&quot;Japanese Bridge &amp; Pond, Charles Neal, 1998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0"/>
            <a:ext cx="9144000" cy="1801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edc7da"/>
                </a:solidFill>
                <a:latin typeface="Albertus Extra Bold"/>
                <a:cs typeface="Simplified Arabic"/>
              </a:rPr>
              <a:t>سلبيات وإيجابيات الحل الجماعي</a:t>
            </a:r>
            <a:endParaRPr b="0" lang="en-US" sz="5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2" name="" descr="&quot;Boulders, Stoddard, Alice Kent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04920" y="304920"/>
            <a:ext cx="5943600" cy="292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200" spc="-1" strike="noStrike">
                <a:solidFill>
                  <a:srgbClr val="c08e00"/>
                </a:solidFill>
                <a:latin typeface="Albertus Extra Bold"/>
                <a:cs typeface="Simplified Arabic"/>
              </a:rPr>
              <a:t>أسباب الفشل في حل المشكلات</a:t>
            </a:r>
            <a:endParaRPr b="0" lang="en-US" sz="6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&quot;Stepping Stones, Yonkers, New York&quot; © Roma 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990360" y="5257800"/>
            <a:ext cx="74674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75000"/>
          </a:bodyPr>
          <a:p>
            <a:pPr marL="257040" indent="0" algn="ctr" rtl="1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ff9900"/>
                </a:solidFill>
                <a:latin typeface="Albertus Extra Bold"/>
                <a:cs typeface="Simplified Arabic"/>
              </a:rPr>
              <a:t>أهمية المعلومات لحل المشاكل</a:t>
            </a:r>
            <a:endParaRPr b="0" lang="en-US" sz="5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9" name="" descr="&quot;Silver Falls, Oregon&quot; © Wood Sabo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971800" y="1828800"/>
            <a:ext cx="41148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200" spc="-1" strike="noStrike">
                <a:solidFill>
                  <a:srgbClr val="003300"/>
                </a:solidFill>
                <a:latin typeface="Albertus Extra Bold"/>
                <a:cs typeface="Simplified Arabic"/>
              </a:rPr>
              <a:t>أدوات تحليل المشكلات.</a:t>
            </a:r>
            <a:endParaRPr b="0" lang="en-US" sz="6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&quot;Canadian Rockies, Banff National Park, Alberta&quot; © Larry Car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477120" y="-360"/>
            <a:ext cx="2666880" cy="21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6600"/>
            </a:outerShdw>
          </a:effectLst>
        </p:spPr>
        <p:txBody>
          <a:bodyPr anchor="t">
            <a:noAutofit/>
          </a:bodyPr>
          <a:p>
            <a:pPr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cc99"/>
                </a:solidFill>
                <a:uFillTx/>
                <a:latin typeface="Times New Roman"/>
                <a:cs typeface="Simplified Arabic"/>
              </a:rPr>
              <a:t>المكـان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cc99"/>
                </a:solidFill>
                <a:uFillTx/>
                <a:latin typeface="Times New Roman"/>
                <a:cs typeface="Simplified Arabic"/>
              </a:rPr>
              <a:t>الزمـان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cc99"/>
                </a:solidFill>
                <a:uFillTx/>
                <a:latin typeface="Times New Roman"/>
                <a:cs typeface="Simplified Arabic"/>
              </a:rPr>
              <a:t>الـمـدة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0960" y="66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57200" y="1752480"/>
            <a:ext cx="3429000" cy="530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200" spc="-1" strike="noStrike">
                <a:solidFill>
                  <a:srgbClr val="562b00"/>
                </a:solidFill>
                <a:latin typeface="Albertus Extra Bold"/>
                <a:cs typeface="Simplified Arabic"/>
              </a:rPr>
              <a:t>خطوات تحليل المشكلات</a:t>
            </a:r>
            <a:endParaRPr b="0" lang="en-US" sz="62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9" name="" descr="&quot;Cayo Levantado, Dominican Republic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943600" y="457200"/>
            <a:ext cx="279072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000" spc="-1" strike="noStrike">
                <a:solidFill>
                  <a:srgbClr val="d8d6b0"/>
                </a:solidFill>
                <a:latin typeface="Albertus Extra Bold"/>
                <a:cs typeface="Simplified Arabic"/>
              </a:rPr>
              <a:t>هل وجود المشكلات يعد مشكلة؟</a:t>
            </a:r>
            <a:endParaRPr b="0" lang="en-US" sz="5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&quot;Waning Rays of Light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42568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cc66"/>
                </a:solidFill>
                <a:uFillTx/>
                <a:latin typeface="Times New Roman"/>
              </a:rPr>
              <a:t>تساؤلات ؟ 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388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1199"/>
              </a:spcBef>
              <a:buClr>
                <a:srgbClr val="cccc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cc66"/>
                </a:solidFill>
                <a:latin typeface="Times New Roman"/>
                <a:ea typeface="Traditional Arabic"/>
              </a:rPr>
              <a:t> ماهو آخر كتاب قرأته في الإدارة ؟ ومتى 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 algn="r" rtl="1">
              <a:spcBef>
                <a:spcPts val="1199"/>
              </a:spcBef>
              <a:buClr>
                <a:srgbClr val="cccc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cc66"/>
                </a:solidFill>
                <a:latin typeface="Times New Roman"/>
                <a:ea typeface="Traditional Arabic"/>
              </a:rPr>
              <a:t> ماهي آخر دورة إدارية حضرتها ؟ ومتى 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 algn="r" rtl="1">
              <a:spcBef>
                <a:spcPts val="1199"/>
              </a:spcBef>
              <a:buClr>
                <a:srgbClr val="cccc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cc66"/>
                </a:solidFill>
                <a:latin typeface="Times New Roman"/>
                <a:ea typeface="Traditional Arabic"/>
              </a:rPr>
              <a:t> ماذا تتوقع أن تسمع هذا اليوم 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This picture was taken from the same spot at the previous one (ie the motu north of Le Meridien) but looks north instead of south. Note the table &amp; umbrella sitting out in about 2 feet of water off in the distance - I believe this is where guests at the Bora Bora Lagoon Resort who book a private motu dinner are taken for a wonderful exotic meal (I saw a posting about it once at the www.tahiti-explorer.com website). If you exercise the &quot;View Full Size&quot; option you can see the BBQ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0" y="2438280"/>
            <a:ext cx="4952880" cy="3353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cc99"/>
            </a:outerShdw>
          </a:effectLst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c4a00"/>
                </a:solidFill>
                <a:latin typeface="Albertus Extra Bold"/>
                <a:cs typeface="Simplified Arabic"/>
              </a:rPr>
              <a:t>ماهو الهدف من طرحه 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c4a00"/>
                </a:solidFill>
                <a:latin typeface="Albertus Extra Bold"/>
                <a:cs typeface="Simplified Arabic"/>
              </a:rPr>
              <a:t>تعريف المشكلة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c4a00"/>
                </a:solidFill>
                <a:latin typeface="Albertus Extra Bold"/>
                <a:cs typeface="Simplified Arabic"/>
              </a:rPr>
              <a:t>أنواع المشاكل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5409720" y="4190760"/>
            <a:ext cx="3505320" cy="23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c4a00"/>
                </a:solidFill>
                <a:latin typeface="Times New Roman"/>
              </a:rPr>
              <a:t>عناصر الموضوع</a:t>
            </a:r>
            <a:r>
              <a:rPr b="1" lang="ar-SA" sz="7200" spc="-1" strike="noStrike">
                <a:solidFill>
                  <a:srgbClr val="4c4a00"/>
                </a:solidFill>
                <a:latin typeface="Times New Roman"/>
              </a:rPr>
              <a:t>: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cc"/>
            </a:outerShdw>
          </a:effectLst>
        </p:spPr>
        <p:txBody>
          <a:bodyPr anchor="ctr">
            <a:normAutofit fontScale="67000"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200" spc="-1" strike="noStrike">
                <a:solidFill>
                  <a:srgbClr val="444466"/>
                </a:solidFill>
                <a:latin typeface="Times New Roman"/>
              </a:rPr>
              <a:t>مقدمات مهمة عن المشكلات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0880" y="3352680"/>
            <a:ext cx="85345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993366"/>
                </a:solidFill>
                <a:latin typeface="Albertus Extra Bold"/>
                <a:cs typeface="Simplified Arabic"/>
              </a:rPr>
              <a:t>المشكلة ..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993366"/>
                </a:solidFill>
                <a:latin typeface="Albertus Extra Bold"/>
                <a:cs typeface="Simplified Arabic"/>
              </a:rPr>
              <a:t>فرصة ثمينة !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&quot;Autumn Splendor&quot; © SuperStock, Inc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5562720" y="1600200"/>
            <a:ext cx="289548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</a:rPr>
              <a:t>كيف تدرك المشكلة ؟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&quot;Sunrise on Sanibel Beach, Florida&quot; © Mike Bri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ctr">
            <a:normAutofit fontScale="83000"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85ae"/>
                </a:solidFill>
                <a:latin typeface="Times New Roman"/>
              </a:rPr>
              <a:t>حال الناس مع المشاكل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-230832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3" name="" descr="&quot;Guam in the Evening&quot; © Sea to Sky Produ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943600" y="228240"/>
            <a:ext cx="32004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70000"/>
          </a:bodyPr>
          <a:p>
            <a:pPr marL="24012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b549"/>
                </a:solidFill>
                <a:latin typeface="Times New Roman"/>
              </a:rPr>
              <a:t>أسئلة مهمة عند تحديد المشكلات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04:10:11Z</dcterms:created>
  <dc:creator> </dc:creator>
  <dc:description/>
  <dc:language>en-US</dc:language>
  <cp:lastModifiedBy>الرئيسي</cp:lastModifiedBy>
  <dcterms:modified xsi:type="dcterms:W3CDTF">2003-07-23T22:28:20Z</dcterms:modified>
  <cp:revision>170</cp:revision>
  <dc:subject/>
  <dc:title>المشكلات الإدارية وكيفية علاجها ؟</dc:title>
</cp:coreProperties>
</file>