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7E7B-E9BF-43BF-B218-72844236C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6608-C9B9-4C8C-A99C-9510F11BD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3CFE-61F6-4027-84A8-78650D131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088A-7002-431B-A3A3-4A0FEA7AC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5BFC6-4C30-47F5-8207-71DF40AE2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9C13A-73F1-4461-BADC-56D6EEC46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15678-B6BF-47A7-A26B-58A3452A1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31645-26F6-46EF-8DD8-9AC313076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B0145-2A3A-4662-9794-4B71822F9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0B95B-9719-46A5-B2AF-DEC0ED012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D0845-D8AB-4FD2-A00A-08855C19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82D5-DADD-4F07-A838-14E6256D2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BACC8-D9B2-41DB-9E4D-10323A17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F0D77-8A0D-405A-98C3-1F04FDD6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3D104-AE2C-4594-9E8F-144FB0F6F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D6802-005D-4E08-8D03-92BE0EC41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759CB-B39A-416C-839B-76EA5E1D9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4C1A-C25E-4A40-B21A-D56B8FB35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9497-42E8-452E-9E96-02F29BB06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EB64-59F0-4B18-A9C9-6C6EE7335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69CB-3C62-4412-92EF-97A864113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30D5-EECA-4500-87DC-1020B2C4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145E-AED2-431C-B124-0D9875F1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0D96-7415-4661-AFC0-97DA9486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028C8-EB00-421A-B43B-120D872208FF}" type="slidenum">
              <a:rPr b="0" lang="ar-SA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FBE50-260F-45DB-9837-C881F754BAC3}" type="slidenum">
              <a:rPr b="0" lang="ar-SA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webshots.com/g/66/383-sh/26301.htm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&quot;Rest Area, Tourist Route, Outback Australia&quot; © Claver Carrol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4a2500"/>
                </a:solidFill>
                <a:latin typeface="Albertus Extra Bold"/>
                <a:cs typeface="Simplified Arabic"/>
              </a:rPr>
              <a:t>بيان الطرق           للتعامل مع المشاكل.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419720" y="6095880"/>
            <a:ext cx="1981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4a2500"/>
                </a:solidFill>
                <a:latin typeface="Albertus Extra Bold"/>
                <a:cs typeface="Simplified Arabic"/>
              </a:rPr>
              <a:t>المنهجية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" y="228600"/>
            <a:ext cx="7889760" cy="195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100" spc="-1" strike="noStrike">
                <a:solidFill>
                  <a:srgbClr val="cd9a67"/>
                </a:solidFill>
                <a:latin typeface="Times New Roman"/>
              </a:rPr>
              <a:t>ماهو الهدف من طرح هذا الموضوع ؟</a:t>
            </a:r>
            <a:endParaRPr b="0" lang="en-US" sz="61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42" name="" descr="&quot;Getting Focused, New York City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0" y="4114800"/>
            <a:ext cx="9144000" cy="274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80000"/>
          </a:bodyPr>
          <a:p>
            <a:pPr marL="27432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af"/>
                </a:solidFill>
                <a:latin typeface="Times New Roman"/>
                <a:cs typeface="Simplified Arabic"/>
              </a:rPr>
              <a:t>إنّ ما يزعج الناس ليس مشاكلهم، وإنّما </a:t>
            </a:r>
            <a:r>
              <a:rPr b="1" lang="ar-SA" sz="4000" spc="-1" strike="noStrike" u="sng">
                <a:solidFill>
                  <a:srgbClr val="ffffaf"/>
                </a:solidFill>
                <a:uFillTx/>
                <a:latin typeface="Times New Roman"/>
                <a:cs typeface="Simplified Arabic"/>
              </a:rPr>
              <a:t>نظرتهم</a:t>
            </a:r>
            <a:r>
              <a:rPr b="1" lang="ar-SA" sz="4000" spc="-1" strike="noStrike">
                <a:solidFill>
                  <a:srgbClr val="ffffaf"/>
                </a:solidFill>
                <a:latin typeface="Times New Roman"/>
                <a:ea typeface="Simplified Arabic"/>
              </a:rPr>
              <a:t> لها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27432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ffffaf"/>
                </a:solidFill>
                <a:uFillTx/>
                <a:latin typeface="Times New Roman"/>
                <a:cs typeface="Simplified Arabic"/>
              </a:rPr>
              <a:t>التعايش</a:t>
            </a:r>
            <a:r>
              <a:rPr b="1" lang="ar-SA" sz="4000" spc="-1" strike="noStrike">
                <a:solidFill>
                  <a:srgbClr val="ffffaf"/>
                </a:solidFill>
                <a:latin typeface="Times New Roman"/>
                <a:ea typeface="Simplified Arabic"/>
              </a:rPr>
              <a:t> مع المشكلة أمر مطلوب أحياناً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27432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af"/>
                </a:solidFill>
                <a:latin typeface="Times New Roman"/>
                <a:cs typeface="Simplified Arabic"/>
              </a:rPr>
              <a:t>قد يحسن </a:t>
            </a:r>
            <a:r>
              <a:rPr b="1" lang="ar-SA" sz="4000" spc="-1" strike="noStrike" u="sng">
                <a:solidFill>
                  <a:srgbClr val="ffffaf"/>
                </a:solidFill>
                <a:uFillTx/>
                <a:latin typeface="Times New Roman"/>
                <a:cs typeface="Simplified Arabic"/>
              </a:rPr>
              <a:t>تجاهل</a:t>
            </a:r>
            <a:r>
              <a:rPr b="1" lang="ar-SA" sz="4000" spc="-1" strike="noStrike">
                <a:solidFill>
                  <a:srgbClr val="ffffaf"/>
                </a:solidFill>
                <a:latin typeface="Times New Roman"/>
                <a:ea typeface="Simplified Arabic"/>
              </a:rPr>
              <a:t> المشكلة بعد استيفاء دراستها !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9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4" dur="5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9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46" name="" descr="&quot;St Peter's Cathedral, Vatican City, Rome, Italy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4038480" y="152280"/>
            <a:ext cx="487692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يفترض </a:t>
            </a:r>
            <a:r>
              <a:rPr b="1" lang="ar-SA" sz="3600" spc="-1" strike="noStrike" u="sng">
                <a:solidFill>
                  <a:srgbClr val="ffffcc"/>
                </a:solidFill>
                <a:uFillTx/>
                <a:latin typeface="Times New Roman"/>
                <a:cs typeface="Simplified Arabic"/>
              </a:rPr>
              <a:t>تسمية</a:t>
            </a:r>
            <a:r>
              <a:rPr b="1" lang="ar-SA" sz="36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 المشكلة باسم معين يتعارف عليه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267080" y="1371600"/>
            <a:ext cx="470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يجب أن يعلم </a:t>
            </a:r>
            <a:r>
              <a:rPr b="1" lang="ar-SA" sz="3600" spc="-1" strike="noStrike" u="sng">
                <a:solidFill>
                  <a:srgbClr val="ffffcc"/>
                </a:solidFill>
                <a:uFillTx/>
                <a:latin typeface="Times New Roman"/>
                <a:cs typeface="Simplified Arabic"/>
              </a:rPr>
              <a:t>رئيسك</a:t>
            </a:r>
            <a:r>
              <a:rPr b="1" lang="ar-SA" sz="36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 بالمشكلة عن طريقك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randomBar dir="horz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3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3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3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3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0" name="" descr="&quot;Sunset Sail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0" y="1447920"/>
            <a:ext cx="9144000" cy="3657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cc00"/>
            </a:outerShdw>
          </a:effectLst>
        </p:spPr>
        <p:txBody>
          <a:bodyPr anchor="t">
            <a:normAutofit fontScale="87000"/>
          </a:bodyPr>
          <a:p>
            <a:pPr marL="529920" indent="-529920" algn="r" rtl="1">
              <a:spcBef>
                <a:spcPts val="1001"/>
              </a:spcBef>
              <a:buClr>
                <a:srgbClr val="85834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تأكد </a:t>
            </a:r>
            <a:r>
              <a:rPr b="1" lang="ar-SA" sz="4000" spc="-1" strike="noStrike" u="sng">
                <a:solidFill>
                  <a:srgbClr val="000000"/>
                </a:solidFill>
                <a:uFillTx/>
                <a:latin typeface="Times New Roman"/>
              </a:rPr>
              <a:t>أنّك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لست جزءاً من المشكلة أو سبباً رئيساً لها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529920" indent="-529920" algn="r" rtl="1">
              <a:spcBef>
                <a:spcPts val="1001"/>
              </a:spcBef>
              <a:buClr>
                <a:srgbClr val="85834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ا تحاول استنتاج شئ ثمّ </a:t>
            </a:r>
            <a:r>
              <a:rPr b="1" lang="ar-SA" sz="4000" spc="-1" strike="noStrike" u="sng">
                <a:solidFill>
                  <a:srgbClr val="000000"/>
                </a:solidFill>
                <a:uFillTx/>
                <a:latin typeface="Times New Roman"/>
              </a:rPr>
              <a:t>تسعى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لإثباته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529920" indent="-529920" algn="r" rtl="1">
              <a:spcBef>
                <a:spcPts val="1001"/>
              </a:spcBef>
              <a:buClr>
                <a:srgbClr val="85834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00000"/>
                </a:solidFill>
                <a:uFillTx/>
                <a:latin typeface="Times New Roman"/>
              </a:rPr>
              <a:t>لا تقفز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مباشرة إلى الحل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529920" indent="-529920" algn="r" rtl="1">
              <a:spcBef>
                <a:spcPts val="1001"/>
              </a:spcBef>
              <a:buClr>
                <a:srgbClr val="85834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اسأل دائماً عن </a:t>
            </a:r>
            <a:r>
              <a:rPr b="1" lang="ar-SA" sz="4000" spc="-1" strike="noStrike" u="sng">
                <a:solidFill>
                  <a:srgbClr val="000000"/>
                </a:solidFill>
                <a:uFillTx/>
                <a:latin typeface="Times New Roman"/>
              </a:rPr>
              <a:t>المظاهر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والحقائق وليس عن المشاعر والأحاسيس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5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0" dur="50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5" dur="500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6" name="" descr="&quot;Wild Blue Yonder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304920" y="380880"/>
            <a:ext cx="8458200" cy="285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e5e5ff"/>
                </a:solidFill>
                <a:latin typeface="Times New Roman"/>
              </a:rPr>
              <a:t>كثير من المشاكل لها خاصية التفاعل والاتجاه نحو </a:t>
            </a:r>
            <a:r>
              <a:rPr b="1" lang="ar-SA" sz="4400" spc="-1" strike="noStrike" u="sng">
                <a:solidFill>
                  <a:srgbClr val="e5e5ff"/>
                </a:solidFill>
                <a:uFillTx/>
                <a:latin typeface="Times New Roman"/>
              </a:rPr>
              <a:t>التضخم</a:t>
            </a:r>
            <a:r>
              <a:rPr b="1" lang="ar-SA" sz="4400" spc="-1" strike="noStrike">
                <a:solidFill>
                  <a:srgbClr val="e5e5ff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e5e5ff"/>
                </a:solidFill>
                <a:latin typeface="Times New Roman"/>
              </a:rPr>
              <a:t>لا يوجد سبب واحد لكل مشكلة؛ بل عدّة أسباب </a:t>
            </a:r>
            <a:r>
              <a:rPr b="1" lang="ar-SA" sz="4400" spc="-1" strike="noStrike" u="sng">
                <a:solidFill>
                  <a:srgbClr val="e5e5ff"/>
                </a:solidFill>
                <a:uFillTx/>
                <a:latin typeface="Times New Roman"/>
              </a:rPr>
              <a:t>متداخلة</a:t>
            </a:r>
            <a:r>
              <a:rPr b="1" lang="ar-SA" sz="4400" spc="-1" strike="noStrike">
                <a:solidFill>
                  <a:srgbClr val="e5e5ff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split dir="in" orient="vert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3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9" name="" descr="&quot;Rainbow Reflections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2743200" y="3429000"/>
            <a:ext cx="6129360" cy="3200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 fontScale="82000"/>
          </a:bodyPr>
          <a:p>
            <a:pPr marL="28116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66"/>
                </a:solidFill>
                <a:latin typeface="Times New Roman"/>
              </a:rPr>
              <a:t> فجوة الأداء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28116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66"/>
                </a:solidFill>
                <a:latin typeface="Times New Roman"/>
              </a:rPr>
              <a:t>هي </a:t>
            </a:r>
            <a:r>
              <a:rPr b="1" lang="ar-SA" sz="4400" spc="-1" strike="noStrike" u="sng">
                <a:solidFill>
                  <a:srgbClr val="ffff66"/>
                </a:solidFill>
                <a:uFillTx/>
                <a:latin typeface="Times New Roman"/>
              </a:rPr>
              <a:t>الفرق</a:t>
            </a:r>
            <a:r>
              <a:rPr b="1" lang="ar-SA" sz="4400" spc="-1" strike="noStrike">
                <a:solidFill>
                  <a:srgbClr val="ffff66"/>
                </a:solidFill>
                <a:latin typeface="Times New Roman"/>
              </a:rPr>
              <a:t> ..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28116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66"/>
                </a:solidFill>
                <a:latin typeface="Times New Roman"/>
              </a:rPr>
              <a:t>بين ما ينبغي فعله .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28116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66"/>
                </a:solidFill>
                <a:latin typeface="Times New Roman"/>
              </a:rPr>
              <a:t>وبين الواقع الفعلي  للعمل!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3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4" dur="3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9" dur="3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4" dur="3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63" name="" descr="&quot;Secret Spot, Seattle, Washington&quot; © James T. Ensle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0" y="2437920"/>
            <a:ext cx="4572000" cy="4419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 fontScale="78000"/>
          </a:bodyPr>
          <a:p>
            <a:pPr marL="267480" indent="0" algn="ctr" rtl="1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</a:rPr>
              <a:t>لا يمكن حل المشكلة </a:t>
            </a:r>
            <a:r>
              <a:rPr b="1" lang="ar-SA" sz="4400" spc="-1" strike="noStrike" u="sng">
                <a:solidFill>
                  <a:srgbClr val="ffffff"/>
                </a:solidFill>
                <a:uFillTx/>
                <a:latin typeface="Times New Roman"/>
              </a:rPr>
              <a:t>بمستوى التفكير</a:t>
            </a:r>
            <a:r>
              <a:rPr b="1" lang="ar-SA" sz="4400" spc="-1" strike="noStrike">
                <a:solidFill>
                  <a:srgbClr val="ffffff"/>
                </a:solidFill>
                <a:latin typeface="Times New Roman"/>
              </a:rPr>
              <a:t> نفسه عندما أوجدناها !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267480" indent="0" algn="ctr" rtl="1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</a:rPr>
              <a:t>نحتاج في حل المشكلات إلى مهارات التفكير </a:t>
            </a:r>
            <a:r>
              <a:rPr b="1" lang="ar-SA" sz="4400" spc="-1" strike="noStrike" u="sng">
                <a:solidFill>
                  <a:srgbClr val="ffffff"/>
                </a:solidFill>
                <a:uFillTx/>
                <a:latin typeface="Times New Roman"/>
              </a:rPr>
              <a:t>الإبداعي والتحليلي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3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3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66" name="" descr="&quot;Unlocking the Past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0" y="0"/>
            <a:ext cx="9144000" cy="250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500" spc="-1" strike="noStrike">
                <a:solidFill>
                  <a:srgbClr val="000000"/>
                </a:solidFill>
                <a:latin typeface="Times New Roman"/>
              </a:rPr>
              <a:t>إذا وقعت في مشكلة </a:t>
            </a:r>
            <a:endParaRPr b="0" lang="en-US" sz="4500" spc="-1" strike="noStrike">
              <a:solidFill>
                <a:srgbClr val="003366"/>
              </a:solidFill>
              <a:latin typeface="Times New Roman"/>
            </a:endParaRPr>
          </a:p>
          <a:p>
            <a:pPr algn="ctr" rtl="1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500" spc="-1" strike="noStrike">
                <a:solidFill>
                  <a:srgbClr val="000000"/>
                </a:solidFill>
                <a:latin typeface="Times New Roman"/>
              </a:rPr>
              <a:t>ففكر في </a:t>
            </a:r>
            <a:r>
              <a:rPr b="1" lang="ar-SA" sz="4500" spc="-1" strike="noStrike" u="sng">
                <a:solidFill>
                  <a:srgbClr val="000000"/>
                </a:solidFill>
                <a:uFillTx/>
                <a:latin typeface="Times New Roman"/>
              </a:rPr>
              <a:t>مفاتيحها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</a:rPr>
              <a:t> .. لا في قضبانها !</a:t>
            </a:r>
            <a:endParaRPr b="0" lang="en-US" sz="45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3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3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69" name="" descr="&quot;Santa Lucia Beach, Camaguey, Cuba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2"/>
          <p:cNvSpPr>
            <a:spLocks noGrp="1"/>
          </p:cNvSpPr>
          <p:nvPr>
            <p:ph type="title"/>
          </p:nvPr>
        </p:nvSpPr>
        <p:spPr>
          <a:xfrm>
            <a:off x="4495680" y="1142640"/>
            <a:ext cx="4648320" cy="243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</a:rPr>
              <a:t>لابد من فتح طرق </a:t>
            </a:r>
            <a:r>
              <a:rPr b="1" lang="ar-SA" sz="4800" spc="-1" strike="noStrike" u="sng">
                <a:solidFill>
                  <a:srgbClr val="ffffff"/>
                </a:solidFill>
                <a:uFillTx/>
                <a:latin typeface="Times New Roman"/>
              </a:rPr>
              <a:t>الاتصال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</a:rPr>
              <a:t> بكل أشكاله: </a:t>
            </a:r>
            <a:br>
              <a:rPr sz="4800"/>
            </a:br>
            <a:br>
              <a:rPr sz="4800"/>
            </a:br>
            <a:r>
              <a:rPr b="1" lang="ar-SA" sz="4400" spc="-1" strike="noStrike">
                <a:solidFill>
                  <a:srgbClr val="ffffff"/>
                </a:solidFill>
                <a:latin typeface="Times New Roman"/>
              </a:rPr>
              <a:t>الصاعد والنازل والبيني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" descr="&quot;Into the Clearing, Hunting Valley, Ohio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457200" y="2971800"/>
            <a:ext cx="830592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8f"/>
                </a:solidFill>
                <a:latin typeface="Times New Roman"/>
              </a:rPr>
              <a:t>حل المشكلات ـ في الغالب ـ </a:t>
            </a:r>
            <a:r>
              <a:rPr b="1" lang="ar-SA" sz="4000" spc="-1" strike="noStrike" u="sng">
                <a:solidFill>
                  <a:srgbClr val="ffff8f"/>
                </a:solidFill>
                <a:uFillTx/>
                <a:latin typeface="Times New Roman"/>
              </a:rPr>
              <a:t>منطق</a:t>
            </a:r>
            <a:r>
              <a:rPr b="1" lang="ar-SA" sz="4000" spc="-1" strike="noStrike">
                <a:solidFill>
                  <a:srgbClr val="ffff8f"/>
                </a:solidFill>
                <a:latin typeface="Times New Roman"/>
              </a:rPr>
              <a:t> وليس عاطفة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09480" y="3809880"/>
            <a:ext cx="82296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8f"/>
                </a:solidFill>
                <a:latin typeface="Times New Roman"/>
              </a:rPr>
              <a:t>استشراف </a:t>
            </a:r>
            <a:r>
              <a:rPr b="1" lang="ar-SA" sz="4000" spc="-1" strike="noStrike" u="sng">
                <a:solidFill>
                  <a:srgbClr val="ffff8f"/>
                </a:solidFill>
                <a:uFillTx/>
                <a:latin typeface="Times New Roman"/>
              </a:rPr>
              <a:t>المستقبل</a:t>
            </a:r>
            <a:r>
              <a:rPr b="1" lang="ar-SA" sz="4000" spc="-1" strike="noStrike">
                <a:solidFill>
                  <a:srgbClr val="ffff8f"/>
                </a:solidFill>
                <a:latin typeface="Times New Roman"/>
              </a:rPr>
              <a:t> يمنع حدوث المشكلة أو يقلل من أثرها.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" descr="&quot;Great Wall, Beijing, China&quot; © Roma Sto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3785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9900cc"/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6600" spc="-1" strike="noStrike">
                <a:solidFill>
                  <a:srgbClr val="003366"/>
                </a:solidFill>
                <a:latin typeface="Times New Roman"/>
              </a:rPr>
              <a:t>المشكلة فرصة ثمينة !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828440" y="2590560"/>
            <a:ext cx="6172200" cy="4267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8128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ff"/>
                </a:solidFill>
                <a:latin typeface="Times New Roman"/>
                <a:cs typeface="Simplified Arabic"/>
              </a:rPr>
              <a:t>المعنى المرادف للمشكلة عند الصينيين هو: 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  <a:p>
            <a:pPr marL="812880" indent="0" algn="ctr" rtl="1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ccff"/>
                </a:solidFill>
                <a:latin typeface="Times New Roman"/>
                <a:ea typeface="Simplified Arabic"/>
              </a:rPr>
              <a:t>  الفرصة !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&quot;Nurture Nature&quot; © ImageStat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0" y="5410080"/>
            <a:ext cx="9144000" cy="21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9900"/>
                </a:solidFill>
                <a:latin typeface="Albertus Extra Bold"/>
                <a:ea typeface="Simplified Arabic"/>
              </a:rPr>
              <a:t>        من حدة الذعر وهول الدهشة الناتجين عن حدوث المشاكل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5410080"/>
            <a:ext cx="163836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9900"/>
                </a:solidFill>
                <a:latin typeface="Albertus Extra Bold"/>
                <a:cs typeface="Simplified Arabic"/>
              </a:rPr>
              <a:t>التخفيف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randomBar dir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79" name="" descr="&quot;The Calm Before the Storm&quot; © ImageStat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2209680" y="2971800"/>
            <a:ext cx="6096240" cy="315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8f"/>
                </a:solidFill>
                <a:latin typeface="Times New Roman"/>
                <a:cs typeface="Simplified Arabic"/>
              </a:rPr>
              <a:t>إيجاد حل جديد وعدة حلول أخرى بديلة لكل مشكلة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8f"/>
                </a:solidFill>
                <a:latin typeface="Times New Roman"/>
                <a:cs typeface="Simplified Arabic"/>
              </a:rPr>
              <a:t>اكتشاف قدرات فكرية وطاقات عملية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676520" y="457200"/>
            <a:ext cx="5943600" cy="228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فرصة .. لماذا ؟</a:t>
            </a:r>
            <a:endParaRPr b="0" lang="en-US" sz="8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checker dir="vert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3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3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" descr="&quot;Roll Tide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0" y="4876560"/>
            <a:ext cx="914400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anchor="t">
            <a:normAutofit fontScale="99000"/>
          </a:bodyPr>
          <a:p>
            <a:pPr marL="804600" indent="0" algn="ctr" rtl="1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e3e2c7"/>
                </a:solidFill>
                <a:latin typeface="Times New Roman"/>
                <a:cs typeface="Simplified Arabic"/>
              </a:rPr>
              <a:t>استمرارية البحث عن برامج وآليات جديدة وإبداعية.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  <a:p>
            <a:pPr marL="80460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title"/>
          </p:nvPr>
        </p:nvSpPr>
        <p:spPr>
          <a:xfrm>
            <a:off x="1676520" y="456840"/>
            <a:ext cx="5943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3e2c7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1d3a"/>
                </a:solidFill>
                <a:latin typeface="Times New Roman"/>
                <a:cs typeface="Simplified Arabic"/>
              </a:rPr>
              <a:t>فرصة .. لماذا ؟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split dir="out" orient="horz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7" name="" descr="&quot;Star Trails, Saguaro National Park, Arizona&quot; © ImageStat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14400" y="228240"/>
            <a:ext cx="4448160" cy="311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txBody>
          <a:bodyPr anchor="t">
            <a:normAutofit fontScale="99000"/>
          </a:bodyPr>
          <a:p>
            <a:pPr marL="3394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تحافظ على وحدة المجموعة وتزيد من ثباتها مما يعزز روح الفريق الواحد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91" name="" descr="&quot;Dumbarton Oaks Garden, Georgetown, Washington D.C.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4419720" y="5486400"/>
            <a:ext cx="4724280" cy="2297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160b00"/>
                </a:solidFill>
                <a:latin typeface="Times New Roman"/>
                <a:cs typeface="Simplified Arabic"/>
              </a:rPr>
              <a:t>بالمقارنة مع التاريخ السابق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160b00"/>
                </a:solidFill>
                <a:latin typeface="Times New Roman"/>
                <a:cs typeface="Simplified Arabic"/>
              </a:rPr>
              <a:t>بالمقارنة مع مجموعات متشابهة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666880" y="304920"/>
            <a:ext cx="601992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1c1c1c"/>
                </a:solidFill>
                <a:latin typeface="Times New Roman"/>
              </a:rPr>
              <a:t> كيف تدرك المشكلة ؟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95" name="" descr="&quot;Surreal Sundown, South Africa&quot; © James D. Wat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0" y="5105160"/>
            <a:ext cx="640080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01800"/>
            </a:outerShdw>
          </a:effectLst>
        </p:spPr>
        <p:txBody>
          <a:bodyPr anchor="t">
            <a:normAutofit fontScale="77000"/>
          </a:bodyPr>
          <a:p>
            <a:pPr marL="2638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3c3ff"/>
                </a:solidFill>
                <a:latin typeface="Times New Roman"/>
                <a:cs typeface="Simplified Arabic"/>
              </a:rPr>
              <a:t>من خلال النقد الخارجي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2638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3c3ff"/>
                </a:solidFill>
                <a:latin typeface="Times New Roman"/>
                <a:cs typeface="Simplified Arabic"/>
              </a:rPr>
              <a:t>بالرجوع لأهداف الخطة وبرامجها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title"/>
          </p:nvPr>
        </p:nvSpPr>
        <p:spPr>
          <a:xfrm>
            <a:off x="5943600" y="2209320"/>
            <a:ext cx="320040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b6a5"/>
                </a:solidFill>
                <a:latin typeface="Times New Roman"/>
              </a:rPr>
              <a:t> كيف تدرك المشكلة ؟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wipe dir="u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838080" y="2133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99" name="" descr="&quot;Morning Fog, Siena, Tuscany, Italy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066680" y="2971800"/>
            <a:ext cx="2057400" cy="2133720"/>
          </a:xfrm>
          <a:prstGeom prst="downArrowCallout">
            <a:avLst>
              <a:gd name="adj1" fmla="val 25002"/>
              <a:gd name="adj2" fmla="val 25000"/>
              <a:gd name="adj3" fmla="val 17285"/>
              <a:gd name="adj4" fmla="val 66667"/>
            </a:avLst>
          </a:prstGeom>
          <a:solidFill>
            <a:srgbClr val="27774f"/>
          </a:solidFill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ffe5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e5ff"/>
                </a:solidFill>
                <a:latin typeface="Times New Roman"/>
              </a:rPr>
              <a:t>التضخيم</a:t>
            </a:r>
            <a:r>
              <a:rPr b="1" lang="ar-SA" sz="4000" spc="-1" strike="noStrike">
                <a:solidFill>
                  <a:srgbClr val="ffe5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e5ff"/>
                </a:solidFill>
                <a:latin typeface="Times New Roman"/>
              </a:rPr>
              <a:t>والتهويل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886200" y="2971800"/>
            <a:ext cx="2057400" cy="2133720"/>
          </a:xfrm>
          <a:prstGeom prst="downArrowCallout">
            <a:avLst>
              <a:gd name="adj1" fmla="val 25002"/>
              <a:gd name="adj2" fmla="val 25000"/>
              <a:gd name="adj3" fmla="val 17285"/>
              <a:gd name="adj4" fmla="val 66667"/>
            </a:avLst>
          </a:prstGeom>
          <a:solidFill>
            <a:srgbClr val="27774f"/>
          </a:solidFill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ffe5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e5ff"/>
                </a:solidFill>
                <a:latin typeface="Times New Roman"/>
              </a:rPr>
              <a:t>الاعتدال</a:t>
            </a:r>
            <a:r>
              <a:rPr b="1" lang="ar-SA" sz="4000" spc="-1" strike="noStrike">
                <a:solidFill>
                  <a:srgbClr val="ffe5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e5ff"/>
                </a:solidFill>
                <a:latin typeface="Times New Roman"/>
              </a:rPr>
              <a:t>والتوسط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705720" y="2971800"/>
            <a:ext cx="1981080" cy="2133720"/>
          </a:xfrm>
          <a:prstGeom prst="downArrowCallout">
            <a:avLst>
              <a:gd name="adj1" fmla="val 25002"/>
              <a:gd name="adj2" fmla="val 25000"/>
              <a:gd name="adj3" fmla="val 17951"/>
              <a:gd name="adj4" fmla="val 66667"/>
            </a:avLst>
          </a:prstGeom>
          <a:solidFill>
            <a:srgbClr val="27774f"/>
          </a:solidFill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ffe5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e5ff"/>
                </a:solidFill>
                <a:latin typeface="Times New Roman"/>
              </a:rPr>
              <a:t>النفي</a:t>
            </a:r>
            <a:r>
              <a:rPr b="1" lang="ar-SA" sz="4000" spc="-1" strike="noStrike">
                <a:solidFill>
                  <a:srgbClr val="ffe5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e5ff"/>
                </a:solidFill>
                <a:latin typeface="Times New Roman"/>
              </a:rPr>
              <a:t>أو الغفلة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title"/>
          </p:nvPr>
        </p:nvSpPr>
        <p:spPr>
          <a:xfrm>
            <a:off x="456840" y="228240"/>
            <a:ext cx="81406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8000" spc="-1" strike="noStrike">
                <a:solidFill>
                  <a:srgbClr val="339966"/>
                </a:solidFill>
                <a:latin typeface="Times New Roman"/>
              </a:rPr>
              <a:t>حال الناس مع المشاكل: </a:t>
            </a:r>
            <a:endParaRPr b="0" lang="en-US" sz="8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419720" y="5486400"/>
            <a:ext cx="9903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e5ff"/>
                </a:solidFill>
                <a:latin typeface="Times New Roman"/>
              </a:rPr>
              <a:t>الحل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238880" y="5410080"/>
            <a:ext cx="99072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e5ff"/>
                </a:solidFill>
                <a:latin typeface="Times New Roman"/>
              </a:rPr>
              <a:t>تتراكم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600200" y="5410080"/>
            <a:ext cx="99072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e5ff"/>
                </a:solidFill>
                <a:latin typeface="Times New Roman"/>
              </a:rPr>
              <a:t>اليأس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3049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08" name="" descr="&quot;Gentle Whispers&quot; © Roma Sto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765080" y="-360"/>
            <a:ext cx="70736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9900"/>
            </a:outerShdw>
          </a:effectLst>
        </p:spPr>
        <p:txBody>
          <a:bodyPr anchor="ctr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800" spc="-1" strike="noStrike">
                <a:solidFill>
                  <a:srgbClr val="460023"/>
                </a:solidFill>
                <a:latin typeface="Times New Roman"/>
              </a:rPr>
              <a:t>أسئلة مهمة عند تحديد المشكلات: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510552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cc"/>
            </a:outerShdw>
          </a:effectLst>
        </p:spPr>
        <p:txBody>
          <a:bodyPr anchor="t">
            <a:normAutofit fontScale="85000"/>
          </a:bodyPr>
          <a:p>
            <a:pPr marL="291600" indent="-291600" algn="r" rtl="1">
              <a:spcBef>
                <a:spcPts val="1100"/>
              </a:spcBef>
              <a:buClr>
                <a:srgbClr val="46002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460023"/>
                </a:solidFill>
                <a:latin typeface="Times New Roman"/>
                <a:cs typeface="Simplified Arabic"/>
              </a:rPr>
              <a:t>مامدى حدّة المشكلة وصعوبتها ؟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291600" indent="-291600" algn="r" rtl="1">
              <a:spcBef>
                <a:spcPts val="1100"/>
              </a:spcBef>
              <a:buClr>
                <a:srgbClr val="46002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460023"/>
                </a:solidFill>
                <a:latin typeface="Times New Roman"/>
                <a:cs typeface="Simplified Arabic"/>
              </a:rPr>
              <a:t>ماذا عن تكرار حدوث المشكلة ؟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291600" indent="-291600" algn="r" rtl="1">
              <a:spcBef>
                <a:spcPts val="1100"/>
              </a:spcBef>
              <a:buClr>
                <a:srgbClr val="46002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460023"/>
                </a:solidFill>
                <a:latin typeface="Times New Roman"/>
                <a:cs typeface="Simplified Arabic"/>
              </a:rPr>
              <a:t>ما مدى أهميّة المشكلة ؟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12" name="" descr="&quot;Autumn Light, Canada&quot; © ImageStat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0" y="3200400"/>
            <a:ext cx="2743200" cy="365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anchor="t">
            <a:normAutofit fontScale="81000"/>
          </a:bodyPr>
          <a:p>
            <a:pPr marL="2775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66"/>
                </a:solidFill>
                <a:latin typeface="Times New Roman"/>
                <a:cs typeface="Simplified Arabic"/>
              </a:rPr>
              <a:t>لا تفعل شيئاًً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2775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2775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66"/>
                </a:solidFill>
                <a:latin typeface="Times New Roman"/>
                <a:cs typeface="Simplified Arabic"/>
              </a:rPr>
              <a:t>معالجة الآثا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2775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2775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66"/>
                </a:solidFill>
                <a:latin typeface="Times New Roman"/>
                <a:cs typeface="Simplified Arabic"/>
              </a:rPr>
              <a:t>مراقبة الوضع فق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2775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2775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66"/>
                </a:solidFill>
                <a:latin typeface="Times New Roman"/>
                <a:cs typeface="Simplified Arabic"/>
              </a:rPr>
              <a:t>معالجة المشكلة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151920" y="228240"/>
            <a:ext cx="5410440" cy="1523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2b2b2"/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003366"/>
                </a:solidFill>
                <a:latin typeface="Times New Roman"/>
              </a:rPr>
              <a:t>الأساليب المتبعة للتعامل مع المشكلات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9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4" dur="5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9" dur="50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4" dur="500"/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16" name="" descr="&quot;Hattingen-Sprohovel, North Rhine-Westphalia, Germany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304920" y="2895480"/>
            <a:ext cx="3200400" cy="1905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66"/>
            </a:outerShdw>
          </a:effectLst>
        </p:spPr>
        <p:txBody>
          <a:bodyPr anchor="t">
            <a:normAutofit fontScale="84000"/>
          </a:bodyPr>
          <a:p>
            <a:pPr marL="28800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402000"/>
                </a:solidFill>
                <a:latin typeface="Times New Roman"/>
                <a:cs typeface="MCS SILVER"/>
              </a:rPr>
              <a:t>الجهل بحدوثها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28800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402000"/>
                </a:solidFill>
                <a:latin typeface="Times New Roman"/>
                <a:cs typeface="MCS SILVER"/>
              </a:rPr>
              <a:t>الارتياح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28800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title"/>
          </p:nvPr>
        </p:nvSpPr>
        <p:spPr>
          <a:xfrm>
            <a:off x="2438280" y="151920"/>
            <a:ext cx="655344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663300"/>
            </a:outerShdw>
          </a:effectLst>
        </p:spPr>
        <p:txBody>
          <a:bodyPr anchor="t">
            <a:noAutofit/>
          </a:bodyPr>
          <a:p>
            <a:pPr marL="343080" indent="0" algn="r" rtl="1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00"/>
                </a:solidFill>
                <a:latin typeface="Times New Roman"/>
                <a:cs typeface="MCS SILVER"/>
              </a:rPr>
              <a:t>من أسباب عدم مواجهة المشكلة 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6" dur="3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1" dur="300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809640" y="4495320"/>
            <a:ext cx="7958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21" name="" descr="&quot;Yellow Tulip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2"/>
          <p:cNvSpPr>
            <a:spLocks noGrp="1"/>
          </p:cNvSpPr>
          <p:nvPr>
            <p:ph type="title"/>
          </p:nvPr>
        </p:nvSpPr>
        <p:spPr>
          <a:xfrm>
            <a:off x="304560" y="533520"/>
            <a:ext cx="3733560" cy="54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00"/>
                </a:solidFill>
                <a:latin typeface="Albertus Extra Bold"/>
                <a:cs typeface="Simplified Arabic"/>
              </a:rPr>
              <a:t>كونها تتعلق بشخص محبوب أو مكروه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ar-SA" sz="4800" spc="-1" strike="noStrike">
                <a:solidFill>
                  <a:srgbClr val="ffcc00"/>
                </a:solidFill>
                <a:latin typeface="Albertus Extra Bold"/>
                <a:ea typeface="Simplified Arabic"/>
              </a:rPr>
              <a:t> </a:t>
            </a:r>
            <a:r>
              <a:rPr b="1" lang="ar-SA" sz="4800" spc="-1" strike="noStrike">
                <a:solidFill>
                  <a:srgbClr val="ffcc00"/>
                </a:solidFill>
                <a:latin typeface="Times New Roman"/>
                <a:cs typeface="MCS SILVER"/>
              </a:rPr>
              <a:t>إذا كانت .......؟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checker dir="vert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3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&quot;Alpine Flowers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0" y="0"/>
            <a:ext cx="31240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eb4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3300"/>
                </a:solidFill>
                <a:latin typeface="Albertus Extra Bold"/>
                <a:cs typeface="Simplified Arabic"/>
              </a:rPr>
              <a:t>توضيح 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3300"/>
                </a:solidFill>
                <a:latin typeface="Albertus Extra Bold"/>
                <a:cs typeface="Simplified Arabic"/>
              </a:rPr>
              <a:t>المستفادة من المشكلات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8680" y="762120"/>
            <a:ext cx="30582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a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3300"/>
                </a:solidFill>
                <a:latin typeface="Albertus Extra Bold"/>
                <a:cs typeface="Simplified Arabic"/>
              </a:rPr>
              <a:t>الإيجابيات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24" name="" descr="&quot;Kinkakuji Temple, Kyoto, Japan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0" y="3352320"/>
            <a:ext cx="9144000" cy="304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88000"/>
          </a:bodyPr>
          <a:p>
            <a:pPr marL="30168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000" spc="-1" strike="noStrike">
                <a:solidFill>
                  <a:srgbClr val="ffd175"/>
                </a:solidFill>
                <a:latin typeface="Times New Roman"/>
                <a:ea typeface="MCS SILVER"/>
              </a:rPr>
              <a:t> </a:t>
            </a:r>
            <a:r>
              <a:rPr b="1" i="1" lang="ar-SA" sz="4000" spc="-1" strike="noStrike" u="sng">
                <a:solidFill>
                  <a:srgbClr val="ffd175"/>
                </a:solidFill>
                <a:uFillTx/>
                <a:latin typeface="Times New Roman"/>
                <a:cs typeface="MCS SILVER"/>
              </a:rPr>
              <a:t>تجميع</a:t>
            </a:r>
            <a:r>
              <a:rPr b="1" lang="ar-SA" sz="4000" spc="-1" strike="noStrike" u="sng">
                <a:solidFill>
                  <a:srgbClr val="ffd175"/>
                </a:solidFill>
                <a:uFillTx/>
                <a:latin typeface="Times New Roman"/>
                <a:ea typeface="MCS SILVER"/>
              </a:rPr>
              <a:t> </a:t>
            </a:r>
            <a:r>
              <a:rPr b="1" lang="ar-SA" sz="4000" spc="-1" strike="noStrike">
                <a:solidFill>
                  <a:srgbClr val="ffd175"/>
                </a:solidFill>
                <a:latin typeface="Times New Roman"/>
                <a:cs typeface="MCS SILVER"/>
              </a:rPr>
              <a:t>المشاكل الصغيرة كمشكلة كبيرة واحدة 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0168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d175"/>
                </a:solidFill>
                <a:latin typeface="Times New Roman"/>
                <a:ea typeface="MCS SILVER"/>
              </a:rPr>
              <a:t> الاعتماد على </a:t>
            </a:r>
            <a:r>
              <a:rPr b="1" i="1" lang="ar-SA" sz="4000" spc="-1" strike="noStrike" u="sng">
                <a:solidFill>
                  <a:srgbClr val="ffd175"/>
                </a:solidFill>
                <a:uFillTx/>
                <a:latin typeface="Times New Roman"/>
                <a:cs typeface="MCS SILVER"/>
              </a:rPr>
              <a:t>المشاعر</a:t>
            </a:r>
            <a:r>
              <a:rPr b="1" lang="ar-SA" sz="4000" spc="-1" strike="noStrike">
                <a:solidFill>
                  <a:srgbClr val="ffd175"/>
                </a:solidFill>
                <a:latin typeface="Times New Roman"/>
                <a:ea typeface="MCS SILVER"/>
              </a:rPr>
              <a:t> دون الحقائق 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0168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000" spc="-1" strike="noStrike" u="sng">
                <a:solidFill>
                  <a:srgbClr val="ffd175"/>
                </a:solidFill>
                <a:uFillTx/>
                <a:latin typeface="Times New Roman"/>
                <a:ea typeface="MCS SILVER"/>
              </a:rPr>
              <a:t> القفز</a:t>
            </a:r>
            <a:r>
              <a:rPr b="1" lang="ar-SA" sz="4000" spc="-1" strike="noStrike">
                <a:solidFill>
                  <a:srgbClr val="ffd175"/>
                </a:solidFill>
                <a:latin typeface="Times New Roman"/>
                <a:ea typeface="MCS SILVER"/>
              </a:rPr>
              <a:t> مباشرة إلى الأسباب والحلول 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01680" indent="0" algn="r" rtl="1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d175"/>
                </a:solidFill>
                <a:latin typeface="Times New Roman"/>
                <a:ea typeface="MCS SILVER"/>
              </a:rPr>
              <a:t> الاختلاف حول </a:t>
            </a:r>
            <a:r>
              <a:rPr b="1" i="1" lang="ar-SA" sz="4000" spc="-1" strike="noStrike" u="sng">
                <a:solidFill>
                  <a:srgbClr val="ffd175"/>
                </a:solidFill>
                <a:uFillTx/>
                <a:latin typeface="Times New Roman"/>
                <a:cs typeface="MCS SILVER"/>
              </a:rPr>
              <a:t>معيار الأداء</a:t>
            </a:r>
            <a:r>
              <a:rPr b="1" lang="ar-SA" sz="4000" spc="-1" strike="noStrike">
                <a:solidFill>
                  <a:srgbClr val="ffd175"/>
                </a:solidFill>
                <a:latin typeface="Times New Roman"/>
                <a:ea typeface="MCS SILVER"/>
              </a:rPr>
              <a:t> القياسي 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title"/>
          </p:nvPr>
        </p:nvSpPr>
        <p:spPr>
          <a:xfrm>
            <a:off x="1371240" y="151920"/>
            <a:ext cx="6629400" cy="838440"/>
          </a:xfrm>
          <a:prstGeom prst="rect">
            <a:avLst/>
          </a:prstGeom>
          <a:solidFill>
            <a:srgbClr val="ffd175"/>
          </a:solidFill>
          <a:ln w="9360">
            <a:solidFill>
              <a:srgbClr val="080808"/>
            </a:solidFill>
            <a:miter/>
          </a:ln>
          <a:effectLst>
            <a:outerShdw dist="36147" dir="2700000" blurRad="0" rotWithShape="0">
              <a:srgbClr val="cccc99"/>
            </a:outerShdw>
          </a:effectLst>
        </p:spPr>
        <p:txBody>
          <a:bodyPr anchor="ctr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3300"/>
                </a:solidFill>
                <a:latin typeface="Times New Roman"/>
                <a:cs typeface="MCS SILVER"/>
              </a:rPr>
              <a:t>أخطاء في تحديد المشكلات :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randomBar dir="horz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" descr="&quot;Majestic Descent&quot; © Tom Brakefiel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685800" y="2666880"/>
            <a:ext cx="396252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MCS SILVER"/>
              </a:rPr>
              <a:t> التركيز على الأسباب </a:t>
            </a:r>
            <a:r>
              <a:rPr b="1" lang="ar-SA" sz="4800" spc="-1" strike="noStrike" u="sng">
                <a:solidFill>
                  <a:srgbClr val="ffffff"/>
                </a:solidFill>
                <a:uFillTx/>
                <a:latin typeface="Times New Roman"/>
                <a:cs typeface="MCS SILVER"/>
              </a:rPr>
              <a:t>الخارجية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MCS SILVER"/>
              </a:rPr>
              <a:t> فقط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cover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" descr="&quot;Lubeck, Germany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0" y="0"/>
            <a:ext cx="3581280" cy="338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00000"/>
                </a:solidFill>
                <a:uFillTx/>
                <a:latin typeface="Times New Roman"/>
                <a:cs typeface="MCS SILVER"/>
              </a:rPr>
              <a:t>إغفال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MCS SILVER"/>
              </a:rPr>
              <a:t> مشاركة المستويات الإدارية القريبة من تنفيذ العمل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5000"/>
              </a:lnSpc>
              <a:buClr>
                <a:srgbClr val="000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000040"/>
                </a:solidFill>
                <a:latin typeface="Times New Roman"/>
              </a:rPr>
              <a:t>المشكلة فرصة ثمينة!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r" rtl="1">
              <a:lnSpc>
                <a:spcPct val="85000"/>
              </a:lnSpc>
              <a:buClr>
                <a:srgbClr val="000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000040"/>
                </a:solidFill>
                <a:latin typeface="Times New Roman"/>
              </a:rPr>
              <a:t>كيف تدرك المشكلة ؟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3738600" y="2933640"/>
            <a:ext cx="1666800" cy="990720"/>
            <a:chOff x="3738600" y="2933640"/>
            <a:chExt cx="1666800" cy="990720"/>
          </a:xfrm>
        </p:grpSpPr>
        <p:sp>
          <p:nvSpPr>
            <p:cNvPr id="302" name=""/>
            <p:cNvSpPr/>
            <p:nvPr/>
          </p:nvSpPr>
          <p:spPr>
            <a:xfrm>
              <a:off x="3738600" y="2933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738600" y="2933640"/>
              <a:ext cx="16668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3366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en-US" sz="5900" spc="-1" strike="noStrike">
                  <a:solidFill>
                    <a:srgbClr val="003366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               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pic>
        <p:nvPicPr>
          <p:cNvPr id="304" name="" descr="&quot;Rush, Mammoth Mountain, California&quot; © Ron Romanosk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2"/>
          <p:cNvSpPr>
            <a:spLocks noGrp="1"/>
          </p:cNvSpPr>
          <p:nvPr>
            <p:ph type="title"/>
          </p:nvPr>
        </p:nvSpPr>
        <p:spPr>
          <a:xfrm>
            <a:off x="1523520" y="1523880"/>
            <a:ext cx="7162920" cy="2438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Albertus Extra Bold"/>
                <a:ea typeface="Simplified Arabic"/>
              </a:rPr>
              <a:t> االتأكيد على ضرورة</a:t>
            </a:r>
            <a:br>
              <a:rPr sz="4400"/>
            </a:br>
            <a:r>
              <a:rPr b="1" lang="ar-SA" sz="4400" spc="-1" strike="noStrike">
                <a:solidFill>
                  <a:srgbClr val="ffff00"/>
                </a:solidFill>
                <a:latin typeface="Albertus Extra Bold"/>
                <a:ea typeface="Simplified Arabic"/>
              </a:rPr>
              <a:t> </a:t>
            </a:r>
            <a:br>
              <a:rPr sz="4400"/>
            </a:br>
            <a:r>
              <a:rPr b="1" lang="ar-SA" sz="4400" spc="-1" strike="noStrike">
                <a:solidFill>
                  <a:srgbClr val="ffff00"/>
                </a:solidFill>
                <a:latin typeface="Albertus Extra Bold"/>
                <a:cs typeface="Simplified Arabic"/>
              </a:rPr>
              <a:t>في التعامل مع المشكلات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425960" y="2362320"/>
            <a:ext cx="71744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Albertus Extra Bold"/>
                <a:cs typeface="Simplified Arabic"/>
              </a:rPr>
              <a:t>الصراحة والوضوح والدقة</a:t>
            </a:r>
            <a:r>
              <a:rPr b="1" lang="ar-SA" sz="4400" spc="-1" strike="noStrike">
                <a:solidFill>
                  <a:srgbClr val="ffff00"/>
                </a:solidFill>
                <a:latin typeface="Albertus Extra Bold"/>
                <a:ea typeface="Simplified Arabic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&quot;Trinity&quot; © Digital Blasphem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762120" y="3429000"/>
            <a:ext cx="7958160" cy="2743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45008a"/>
            </a:outerShdw>
          </a:effectLst>
        </p:spPr>
        <p:txBody>
          <a:bodyPr anchor="t">
            <a:normAutofit fontScale="78000"/>
          </a:bodyPr>
          <a:p>
            <a:pPr marL="267480" indent="0" algn="ct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5400" spc="-1" strike="noStrike">
                <a:solidFill>
                  <a:srgbClr val="ff9966"/>
                </a:solidFill>
                <a:latin typeface="Times New Roman"/>
                <a:ea typeface="Traditional Arabic"/>
              </a:rPr>
              <a:t> </a:t>
            </a:r>
            <a:r>
              <a:rPr b="1" i="1" lang="ar-SA" sz="5400" spc="-1" strike="noStrike">
                <a:solidFill>
                  <a:srgbClr val="ccffff"/>
                </a:solidFill>
                <a:latin typeface="Times New Roman"/>
                <a:cs typeface="Traditional Arabic"/>
              </a:rPr>
              <a:t>هي الصعوبات التي تواجهنا عند الانتقال من مرحلة إلى أخرى؛ وهي إمّا تمنع الوصول أو تؤخره أو تؤثر في نوعيته.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title"/>
          </p:nvPr>
        </p:nvSpPr>
        <p:spPr>
          <a:xfrm>
            <a:off x="6095880" y="304920"/>
            <a:ext cx="2819520" cy="1828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d6006b"/>
            </a:outerShdw>
          </a:effectLst>
        </p:spPr>
        <p:txBody>
          <a:bodyPr anchor="t">
            <a:noAutofit/>
          </a:bodyPr>
          <a:p>
            <a:pPr marL="343080" indent="0" algn="ctr" rtl="1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7200" spc="-1" strike="noStrike">
                <a:solidFill>
                  <a:srgbClr val="ff9966"/>
                </a:solidFill>
                <a:latin typeface="Times New Roman"/>
                <a:cs typeface="Traditional Arabic"/>
              </a:rPr>
              <a:t>تعريف</a:t>
            </a:r>
            <a:r>
              <a:rPr b="1" i="1" lang="ar-SA" sz="6600" spc="-1" strike="noStrike">
                <a:solidFill>
                  <a:srgbClr val="ff9966"/>
                </a:solidFill>
                <a:latin typeface="Times New Roman"/>
                <a:ea typeface="Traditional Arabic"/>
              </a:rPr>
              <a:t> </a:t>
            </a:r>
            <a:r>
              <a:rPr b="1" i="1" lang="ar-SA" sz="7200" spc="-1" strike="noStrike">
                <a:solidFill>
                  <a:srgbClr val="ff9966"/>
                </a:solidFill>
                <a:latin typeface="Times New Roman"/>
                <a:cs typeface="Traditional Arabic"/>
              </a:rPr>
              <a:t>المشكلة</a:t>
            </a:r>
            <a:r>
              <a:rPr b="1" i="1" lang="ar-SA" sz="6600" spc="-1" strike="noStrike">
                <a:solidFill>
                  <a:srgbClr val="ff9966"/>
                </a:solidFill>
                <a:latin typeface="Times New Roman"/>
                <a:ea typeface="Traditional Arabic"/>
              </a:rPr>
              <a:t>: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pull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&quot;Cool Canyon&quot; © Michael Cox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0" y="609480"/>
            <a:ext cx="3276720" cy="777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ca5f"/>
                </a:solidFill>
                <a:latin typeface="Times New Roman"/>
              </a:rPr>
              <a:t> </a:t>
            </a:r>
            <a:r>
              <a:rPr b="1" i="1" lang="ar-SA" sz="3600" spc="-1" strike="noStrike">
                <a:solidFill>
                  <a:srgbClr val="ccffff"/>
                </a:solidFill>
                <a:latin typeface="Times New Roman"/>
              </a:rPr>
              <a:t>مشكلات في التنفيذ: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ca5f"/>
                </a:solidFill>
                <a:latin typeface="Times New Roman"/>
              </a:rPr>
              <a:t>وهي              عن المعايير المحددة بزيادة أو نقص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ccffff"/>
                </a:solidFill>
                <a:latin typeface="Times New Roman"/>
              </a:rPr>
              <a:t>مشكلات في الانجاز: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ca5f"/>
                </a:solidFill>
                <a:latin typeface="Times New Roman"/>
              </a:rPr>
              <a:t>وهي             من الوصول إلى وضع أفضل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10080" y="380880"/>
            <a:ext cx="373392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5400" spc="-1" strike="noStrike" u="sng">
                <a:solidFill>
                  <a:srgbClr val="ffca5f"/>
                </a:solidFill>
                <a:uFillTx/>
                <a:latin typeface="Times New Roman"/>
              </a:rPr>
              <a:t> أنواع المشاكل: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85800" y="1219320"/>
            <a:ext cx="16002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ca5f"/>
                </a:solidFill>
                <a:latin typeface="Times New Roman"/>
              </a:rPr>
              <a:t>الانحراف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75360" y="3886200"/>
            <a:ext cx="1727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ca5f"/>
                </a:solidFill>
                <a:latin typeface="Times New Roman"/>
              </a:rPr>
              <a:t>ما يمنع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pull dir="u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&quot;Pyramids, Egypt&quot; © H. Armstrong Roberts / American Stock Photograph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685800" y="4191120"/>
            <a:ext cx="1371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ffff"/>
                </a:solidFill>
                <a:latin typeface="Tahoma"/>
              </a:rPr>
              <a:t>متلاشية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24080" y="3124080"/>
            <a:ext cx="3200400" cy="198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966f00"/>
                </a:solidFill>
                <a:latin typeface="Tahoma"/>
                <a:cs typeface="Traditional Arabic"/>
              </a:rPr>
              <a:t>المشكلة</a:t>
            </a:r>
            <a:endParaRPr b="0" lang="en-US" sz="8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495320" y="0"/>
            <a:ext cx="4483080" cy="1447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666633"/>
            </a:outerShdw>
          </a:effectLst>
        </p:spPr>
        <p:txBody>
          <a:bodyPr anchor="ctr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daa100"/>
                </a:solidFill>
                <a:latin typeface="Times New Roman"/>
              </a:rPr>
              <a:t>تقسيمات أخرى: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467480" y="4191120"/>
            <a:ext cx="1371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ffff"/>
                </a:solidFill>
                <a:latin typeface="Tahoma"/>
              </a:rPr>
              <a:t>متفاقمة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038480" y="6095880"/>
            <a:ext cx="13716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ffff"/>
                </a:solidFill>
                <a:latin typeface="Tahoma"/>
              </a:rPr>
              <a:t>ثابتة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 rot="10800000">
            <a:off x="2437920" y="4343040"/>
            <a:ext cx="4648680" cy="1752840"/>
          </a:xfrm>
          <a:prstGeom prst="rect">
            <a:avLst/>
          </a:prstGeom>
          <a:noFill/>
          <a:ln w="57240">
            <a:solidFill>
              <a:srgbClr val="666633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6633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pull dir="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3" name="" descr="&quot;Dice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</p:pic>
      <p:sp>
        <p:nvSpPr>
          <p:cNvPr id="324" name=""/>
          <p:cNvSpPr/>
          <p:nvPr/>
        </p:nvSpPr>
        <p:spPr>
          <a:xfrm>
            <a:off x="3276720" y="2362320"/>
            <a:ext cx="2322360" cy="228600"/>
          </a:xfrm>
          <a:prstGeom prst="leftRightArrow">
            <a:avLst>
              <a:gd name="adj1" fmla="val 50000"/>
              <a:gd name="adj2" fmla="val 202240"/>
            </a:avLst>
          </a:prstGeom>
          <a:gradFill rotWithShape="0">
            <a:gsLst>
              <a:gs pos="0">
                <a:srgbClr val="858341"/>
              </a:gs>
              <a:gs pos="50000">
                <a:srgbClr val="ffffff"/>
              </a:gs>
              <a:gs pos="100000">
                <a:srgbClr val="858341"/>
              </a:gs>
            </a:gsLst>
            <a:lin ang="5400000"/>
          </a:gradFill>
          <a:ln w="9360">
            <a:solidFill>
              <a:srgbClr val="858341"/>
            </a:solidFill>
            <a:miter/>
          </a:ln>
          <a:effectLst>
            <a:outerShdw dist="17819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3399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76720" y="3200400"/>
            <a:ext cx="2322360" cy="228600"/>
          </a:xfrm>
          <a:prstGeom prst="leftRightArrow">
            <a:avLst>
              <a:gd name="adj1" fmla="val 50000"/>
              <a:gd name="adj2" fmla="val 202240"/>
            </a:avLst>
          </a:prstGeom>
          <a:gradFill rotWithShape="0">
            <a:gsLst>
              <a:gs pos="0">
                <a:srgbClr val="858341"/>
              </a:gs>
              <a:gs pos="50000">
                <a:srgbClr val="ffffff"/>
              </a:gs>
              <a:gs pos="100000">
                <a:srgbClr val="858341"/>
              </a:gs>
            </a:gsLst>
            <a:lin ang="5400000"/>
          </a:gradFill>
          <a:ln w="9360">
            <a:solidFill>
              <a:srgbClr val="858341"/>
            </a:solidFill>
            <a:miter/>
          </a:ln>
          <a:effectLst>
            <a:outerShdw dist="17819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3399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276720" y="4267080"/>
            <a:ext cx="2322360" cy="228600"/>
          </a:xfrm>
          <a:prstGeom prst="leftRightArrow">
            <a:avLst>
              <a:gd name="adj1" fmla="val 50000"/>
              <a:gd name="adj2" fmla="val 202240"/>
            </a:avLst>
          </a:prstGeom>
          <a:gradFill rotWithShape="0">
            <a:gsLst>
              <a:gs pos="0">
                <a:srgbClr val="858341"/>
              </a:gs>
              <a:gs pos="50000">
                <a:srgbClr val="ffffff"/>
              </a:gs>
              <a:gs pos="100000">
                <a:srgbClr val="858341"/>
              </a:gs>
            </a:gsLst>
            <a:lin ang="5400000"/>
          </a:gradFill>
          <a:ln w="9360">
            <a:solidFill>
              <a:srgbClr val="858341"/>
            </a:solidFill>
            <a:miter/>
          </a:ln>
          <a:effectLst>
            <a:outerShdw dist="17819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3399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76720" y="5257800"/>
            <a:ext cx="2322360" cy="228600"/>
          </a:xfrm>
          <a:prstGeom prst="leftRightArrow">
            <a:avLst>
              <a:gd name="adj1" fmla="val 50000"/>
              <a:gd name="adj2" fmla="val 202240"/>
            </a:avLst>
          </a:prstGeom>
          <a:gradFill rotWithShape="0">
            <a:gsLst>
              <a:gs pos="0">
                <a:srgbClr val="858341"/>
              </a:gs>
              <a:gs pos="50000">
                <a:srgbClr val="ffffff"/>
              </a:gs>
              <a:gs pos="100000">
                <a:srgbClr val="858341"/>
              </a:gs>
            </a:gsLst>
            <a:lin ang="5400000"/>
          </a:gradFill>
          <a:ln w="9360">
            <a:solidFill>
              <a:srgbClr val="858341"/>
            </a:solidFill>
            <a:miter/>
          </a:ln>
          <a:effectLst>
            <a:outerShdw dist="17819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3399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143000" y="2057400"/>
            <a:ext cx="19810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ahoma"/>
              </a:rPr>
              <a:t>متوقعة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791320" y="2057400"/>
            <a:ext cx="19810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ahoma"/>
              </a:rPr>
              <a:t>مفاجئة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143000" y="2895480"/>
            <a:ext cx="198108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ahoma"/>
              </a:rPr>
              <a:t>نادرة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15000" y="2895480"/>
            <a:ext cx="198108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ahoma"/>
              </a:rPr>
              <a:t>متكررة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066680" y="3962520"/>
            <a:ext cx="198144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ahoma"/>
              </a:rPr>
              <a:t>فردية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715000" y="3962520"/>
            <a:ext cx="19810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ahoma"/>
              </a:rPr>
              <a:t>جماعية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066680" y="4952880"/>
            <a:ext cx="198144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ahoma"/>
              </a:rPr>
              <a:t>قديمة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715000" y="4952880"/>
            <a:ext cx="198108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ahoma"/>
              </a:rPr>
              <a:t>حديثة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title"/>
          </p:nvPr>
        </p:nvSpPr>
        <p:spPr>
          <a:xfrm>
            <a:off x="4723920" y="609120"/>
            <a:ext cx="40258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99"/>
            </a:outerShdw>
          </a:effectLst>
        </p:spPr>
        <p:txBody>
          <a:bodyPr anchor="ctr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</a:rPr>
              <a:t>تقسيمات أخرى: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&quot;California Poppies and other Spring Wildflowers, Tehachapi Mountains, California&quot; © Wood Sabol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0" y="5425920"/>
            <a:ext cx="9144000" cy="1434600"/>
          </a:xfrm>
          <a:prstGeom prst="rect">
            <a:avLst/>
          </a:prstGeom>
          <a:gradFill rotWithShape="0">
            <a:gsLst>
              <a:gs pos="0">
                <a:srgbClr val="004574"/>
              </a:gs>
              <a:gs pos="100000">
                <a:srgbClr val="007ed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bd5b"/>
                </a:solidFill>
                <a:latin typeface="Times New Roman"/>
                <a:cs typeface="Simplified Arabic"/>
              </a:rPr>
              <a:t>قد </a:t>
            </a:r>
            <a:r>
              <a:rPr b="1" lang="ar-SA" sz="4400" spc="-1" strike="noStrike" u="sng">
                <a:solidFill>
                  <a:srgbClr val="ffbd5b"/>
                </a:solidFill>
                <a:uFillTx/>
                <a:latin typeface="Times New Roman"/>
                <a:cs typeface="Simplified Arabic"/>
              </a:rPr>
              <a:t>يستحيل</a:t>
            </a:r>
            <a:r>
              <a:rPr b="1" lang="ar-SA" sz="4400" spc="-1" strike="noStrike">
                <a:solidFill>
                  <a:srgbClr val="ffbd5b"/>
                </a:solidFill>
                <a:latin typeface="Times New Roman"/>
                <a:ea typeface="Simplified Arabic"/>
              </a:rPr>
              <a:t> الحصول على حلول كاملة في واقع غير كامل !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048120" y="0"/>
            <a:ext cx="60958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9900"/>
                </a:solidFill>
                <a:latin typeface="Times New Roman"/>
              </a:rPr>
              <a:t> مقدمات مهمة عن: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731240" y="914400"/>
            <a:ext cx="60130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3366"/>
                </a:solidFill>
                <a:latin typeface="Times New Roman"/>
              </a:rPr>
              <a:t>المشكلات الإدارية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3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3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2T04:10:11Z</dcterms:created>
  <dc:creator> </dc:creator>
  <dc:description/>
  <dc:language>en-US</dc:language>
  <cp:lastModifiedBy>الرئيسي</cp:lastModifiedBy>
  <dcterms:modified xsi:type="dcterms:W3CDTF">2003-07-23T22:33:13Z</dcterms:modified>
  <cp:revision>170</cp:revision>
  <dc:subject/>
  <dc:title>المشكلات الإدارية وكيفية علاجها ؟</dc:title>
</cp:coreProperties>
</file>