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7.jpeg" ContentType="image/jpeg"/>
  <Override PartName="/ppt/media/image3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C9C-AB1B-4E3A-87E5-A14BFF9C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05F-3FF5-4E82-BA8D-0C51AD9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78C-0224-4211-8F1F-53E99237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04D-FF78-4CB5-B8B9-97C44DE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9F24-CB14-4CCA-AA35-E8CA3420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170E-1007-4EC7-8653-1249A289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7A1-F631-4AF8-BDF7-CD377E6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4032-7709-47FA-81FE-25E83996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C747-4C83-47C1-8410-722F49B4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28B4-B77F-42C6-BB41-520C5F8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20AD-EE3F-4843-94FA-03A9FB9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D09-A744-4DBF-B76E-AE2AF55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8201-6624-4520-A3BD-F676B3A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C8CF-6F30-4B0C-927C-ADCE330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8D56-D194-4C97-9DB9-1D306CE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05B-5AD2-48B8-8786-9B101CFC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8B7-93FC-4584-9F0D-56492E42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819-501D-4C6F-B6C3-5FABB5C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760-1E45-41B4-B221-4B0B14A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7B1-7526-4A67-906B-63C2B4F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4C7-8E5F-42BA-90F1-0612439E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A76-FB10-4BD4-91C0-1787146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F4D-6AB1-4F07-9EEB-968E636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008-4115-4D64-B974-8C02DD2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1CB-A1EF-4036-823A-9AD5559D4CDC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7E4D-91E7-4FB2-A85E-FAECE2ECCD31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rumps.com/html/minnetonka_hats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frumps.com/html/minnetonka_hats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frumps.com/html/minnetonka_hats.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frumps.com/html/minnetonka_hats.html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www.frumps.com/html/minnetonka_hats.html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www.frumps.com/html/minnetonka_hats.html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&quot;Tokyo, Japan at N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000066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200400"/>
            <a:ext cx="670572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أين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هي السمات المميزة ل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اذا ومن تعني المشكلة ؟</a:t>
            </a:r>
            <a:br>
              <a:rPr sz="4400"/>
            </a:br>
            <a:r>
              <a:rPr b="1" lang="ar-SA" sz="44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متى حدثت / تحدث المشكلة 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" descr="&quot;Douglas Family Preserve, Santa Barbar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95120" y="5029200"/>
            <a:ext cx="40388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87000"/>
          </a:bodyPr>
          <a:p>
            <a:pPr marL="29844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اختيار أفضل الحلول المقترح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Keukenhof, Hol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86400" y="3123720"/>
            <a:ext cx="36576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a5f"/>
                </a:solidFill>
                <a:latin typeface="Times New Roman"/>
                <a:ea typeface="MCS SILVER"/>
              </a:rPr>
              <a:t> مشاركة عدة مستويات إدار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" descr="&quot;Practice Makes Perfect,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2514600" cy="312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إغفال تسجيل الأفكار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867280" y="0"/>
            <a:ext cx="3276720" cy="2362320"/>
          </a:xfrm>
          <a:prstGeom prst="rect">
            <a:avLst/>
          </a:prstGeom>
          <a:gradFill rotWithShape="0">
            <a:gsLst>
              <a:gs pos="0">
                <a:srgbClr val="00050a"/>
              </a:gs>
              <a:gs pos="100000">
                <a:srgbClr val="003366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السلبيّـــ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1" name="" descr="&quot;The Domino Effect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914400"/>
          </a:xfrm>
          <a:prstGeom prst="rect">
            <a:avLst/>
          </a:prstGeom>
          <a:solidFill>
            <a:srgbClr val="ffdab5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160b00"/>
            </a:outerShdw>
          </a:effectLst>
        </p:spPr>
        <p:txBody>
          <a:bodyPr anchor="t">
            <a:normAutofit fontScale="56000"/>
          </a:bodyPr>
          <a:p>
            <a:pPr marL="191880" indent="0" algn="ctr" rtl="1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التنافس المنفر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&quot;Bridge on the River Rhone,  Avignon, Vaucluse, Franc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523880" y="838080"/>
            <a:ext cx="6248520" cy="205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cs typeface="MCS SILVER"/>
              </a:rPr>
              <a:t>المواكبة والمجارا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dfdf"/>
                </a:solidFill>
                <a:latin typeface="Times New Roman"/>
                <a:ea typeface="MCS SILVER"/>
              </a:rPr>
              <a:t> الافتقار إلى التوجيه الموضوعي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&quot;Do You Have the Time? St. Stephen's Tower, London, Eng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95816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المقيدات الزما نية والمكانية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11480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1148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447920"/>
          </a:xfrm>
          <a:prstGeom prst="rect">
            <a:avLst/>
          </a:prstGeom>
          <a:solidFill>
            <a:srgbClr val="ffd17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 سيطرة طريقة تفكير الرئيس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MCS SILVER"/>
              </a:rPr>
              <a:t>(القبعات الست)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2" name="" descr="&quot;The Vivash Fire, New Mexico&quot; © Michael Clar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1711800" y="5638680"/>
            <a:ext cx="12538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5eaff"/>
                </a:solidFill>
                <a:latin typeface="Times New Roman"/>
                <a:cs typeface="MCS SILVER"/>
              </a:rPr>
              <a:t>عدم اتباع المنهجية في تحديد وحل المشكلات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1981080"/>
            <a:ext cx="3873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&quot;Life Springs Forth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0880" y="4648320"/>
            <a:ext cx="853452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0000"/>
                </a:solidFill>
                <a:latin typeface="Times New Roman"/>
                <a:cs typeface="MCS SILVER"/>
              </a:rPr>
              <a:t>وضع المشكلة خارج نطاقها الحقيقي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&quot;A Ray of Light, VilleFranche, France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acff"/>
                </a:solidFill>
                <a:latin typeface="Times New Roman"/>
                <a:cs typeface="MCS SILVER"/>
              </a:rPr>
              <a:t>نقص المعلومات أو التحليل السيئ للمشكل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&quot;Redwoods and Sequoias&quot; © Robert Marien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9360" y="5562720"/>
            <a:ext cx="4724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ما الذي يبقى ثابتاً   ؟ وما الذي يتغير 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CS SILVER"/>
              </a:rPr>
              <a:t>هل المشكلة تكبر أم تصغر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3366"/>
                </a:solidFill>
                <a:latin typeface="Times New Roman"/>
                <a:cs typeface="MCS SILVER"/>
              </a:rPr>
              <a:t>ماهو الشيء المميز عند تغير حجمها 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" descr="&quot;Above the Clouds, Mt. Shasta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1920" y="4723920"/>
            <a:ext cx="899172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ستخدام نوع واحد من التفكير (طريقة القبعات الست)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غياب أو تحجيم مشاركة الأطراف المعنية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MCS SILVER"/>
              </a:rPr>
              <a:t>الخوف من الفشل ومن التجديد ومن تبادل الأفكار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7378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ff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MCS SILVER"/>
              </a:rPr>
              <a:t>أسباب الفشل في حل المشكل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6" name="" descr="&quot;Wet Daisi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486400" y="609480"/>
            <a:ext cx="3200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MCS SILVER"/>
              </a:rPr>
              <a:t>مقاومة التغيير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0" name="" descr="&quot;Sand Dunes, Central Africa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1080" y="541188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514600"/>
            <a:ext cx="3759120" cy="250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3f4ff"/>
                </a:solidFill>
                <a:latin typeface="Times New Roman"/>
                <a:cs typeface="MCS SILVER"/>
              </a:rPr>
              <a:t>التوقف عن التنفيذ أو ترك المتابعة والتقو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&quot;La Digue Islands, Seychel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txBody>
          <a:bodyPr anchor="t">
            <a:normAutofit fontScale="76000"/>
          </a:bodyPr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المعلومات مهمة لحل المشاكل إذ المعلومة قوة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9aa"/>
                </a:solidFill>
                <a:latin typeface="Times New Roman"/>
                <a:ea typeface="MCS SILVER"/>
              </a:rPr>
              <a:t> لا بد أن يكون للمعلومة صلة بالموضوع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أهمية المعلومات ل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" descr="&quot;On Tim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68000"/>
          </a:bodyPr>
          <a:p>
            <a:pPr marL="2332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ea typeface="MCS SILVER"/>
              </a:rPr>
              <a:t> توقيت الحصول على المعلومة مه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&quot;Candle Glow&quot; © Samuel Veta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09640" y="4876560"/>
            <a:ext cx="795816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MCS SILVER"/>
              </a:rPr>
              <a:t>يجب أن تكون المعلومات دقيق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شرعية طريقة الحصول على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لابد من التعامل بكفاءة مع المعلومة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111"/>
                </a:solidFill>
                <a:latin typeface="Times New Roman"/>
                <a:cs typeface="MCS SILVER"/>
              </a:rPr>
              <a:t>أهمية المعلومات لحل المشكلات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 </a:t>
            </a:r>
            <a:r>
              <a:rPr b="1" lang="ar-SA" sz="5400" spc="-1" strike="noStrike">
                <a:solidFill>
                  <a:srgbClr val="ff7111"/>
                </a:solidFill>
                <a:latin typeface="Times New Roman"/>
                <a:ea typeface="MCS SILVER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&quot;Brilliant Display, Interfirst Plaza, Houston, Tex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3809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ffcc66"/>
                </a:solidFill>
                <a:latin typeface="Times New Roman"/>
                <a:cs typeface="MCS SILVER"/>
              </a:rPr>
              <a:t>أنواع المعلومات: </a:t>
            </a:r>
            <a:endParaRPr b="0" lang="en-US" sz="5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48006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t">
            <a:normAutofit fontScale="73000"/>
          </a:bodyPr>
          <a:p>
            <a:pPr marL="25020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بيانات الاولية والثانوية والتاريخي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" descr="&quot;North Cascades in Autumn, Mount Baker, Washington&quot; © Sharon Gerig /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66520" y="22860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99"/>
            </a:outerShdw>
          </a:effectLst>
        </p:spPr>
        <p:txBody>
          <a:bodyPr anchor="t">
            <a:normAutofit fontScale="69000"/>
          </a:bodyPr>
          <a:p>
            <a:pPr marL="2365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imes New Roman"/>
              </a:rPr>
              <a:t> البيانات الوصفية والكمية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1" name="" descr="&quot;Voyager 1 Image of Saturn&quot; © Courtesy of NA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57200" y="2362320"/>
            <a:ext cx="43434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التنبؤات والتوقعات واستشراف المستقب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دوات تحليل المعلومات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1640" y="3276360"/>
            <a:ext cx="414828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سمكة إشيكاوا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خرائط الزمن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 algn="r" rtl="1">
              <a:spcBef>
                <a:spcPts val="1349"/>
              </a:spcBef>
              <a:buClr>
                <a:srgbClr val="99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993366"/>
                </a:solidFill>
                <a:latin typeface="Times New Roman"/>
                <a:ea typeface="MCS SILVER"/>
              </a:rPr>
              <a:t> الاستبيانات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0" algn="r" rtl="1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&quot;Winter Haven, Germany&quot; © Allsport Photography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أسلوب كبنر- تريجو لتحديد وتعريف المشكلات :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438280"/>
            <a:ext cx="7958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و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أين ا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هي السمات المميزة للوضع الطبيعي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اذا ومن لا تعنيه المشكلة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متى لا تحدث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44"/>
                </a:solidFill>
                <a:latin typeface="Times New Roman"/>
                <a:cs typeface="MCS SILVER"/>
              </a:rPr>
              <a:t>وما الذي يختلف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066680" y="3581280"/>
            <a:ext cx="1752840" cy="13716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سم</a:t>
            </a: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54a"/>
                </a:solidFill>
                <a:latin typeface="Times New Roman"/>
              </a:rPr>
              <a:t>المشكل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19160" y="4343400"/>
            <a:ext cx="556236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03848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4343400"/>
            <a:ext cx="121932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19920" y="3352680"/>
            <a:ext cx="1143000" cy="9907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4343400"/>
            <a:ext cx="1143000" cy="76212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800" spc="-1" strike="noStrike">
                <a:solidFill>
                  <a:srgbClr val="00254a"/>
                </a:solidFill>
                <a:latin typeface="Times New Roman"/>
                <a:cs typeface="MCS SILVER"/>
              </a:rPr>
              <a:t>سمكة إشيكاوا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1905120" y="2514600"/>
          <a:ext cx="5814720" cy="38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514600"/>
                    <a:ext cx="58147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124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99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ccffff"/>
                </a:solidFill>
                <a:latin typeface="Times New Roman"/>
                <a:cs typeface="MCS SILVER"/>
              </a:rPr>
              <a:t>خرائط الزمن 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2666880"/>
            <a:ext cx="380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661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456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8920" y="6400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41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                </a:t>
            </a: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إنجا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99"/>
                </a:solidFill>
                <a:latin typeface="Times New Roman"/>
              </a:rPr>
              <a:t>الزمن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752480" y="6553080"/>
            <a:ext cx="6400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2895480"/>
            <a:ext cx="6019920" cy="3657600"/>
          </a:xfrm>
          <a:custGeom>
            <a:avLst/>
            <a:gdLst/>
            <a:ahLst/>
            <a:rect l="l" t="t" r="r" b="b"/>
            <a:pathLst>
              <a:path w="2448" h="1968">
                <a:moveTo>
                  <a:pt x="0" y="1968"/>
                </a:moveTo>
                <a:cubicBezTo>
                  <a:pt x="64" y="1828"/>
                  <a:pt x="128" y="1688"/>
                  <a:pt x="192" y="1584"/>
                </a:cubicBezTo>
                <a:cubicBezTo>
                  <a:pt x="256" y="1480"/>
                  <a:pt x="328" y="1432"/>
                  <a:pt x="384" y="1344"/>
                </a:cubicBezTo>
                <a:cubicBezTo>
                  <a:pt x="440" y="1256"/>
                  <a:pt x="472" y="1176"/>
                  <a:pt x="528" y="1056"/>
                </a:cubicBezTo>
                <a:cubicBezTo>
                  <a:pt x="584" y="936"/>
                  <a:pt x="616" y="784"/>
                  <a:pt x="720" y="624"/>
                </a:cubicBezTo>
                <a:cubicBezTo>
                  <a:pt x="824" y="464"/>
                  <a:pt x="1016" y="192"/>
                  <a:pt x="1152" y="96"/>
                </a:cubicBezTo>
                <a:cubicBezTo>
                  <a:pt x="1288" y="0"/>
                  <a:pt x="1408" y="40"/>
                  <a:pt x="1536" y="48"/>
                </a:cubicBezTo>
                <a:cubicBezTo>
                  <a:pt x="1664" y="56"/>
                  <a:pt x="1832" y="88"/>
                  <a:pt x="1920" y="144"/>
                </a:cubicBezTo>
                <a:cubicBezTo>
                  <a:pt x="2008" y="200"/>
                  <a:pt x="2016" y="304"/>
                  <a:pt x="2064" y="384"/>
                </a:cubicBezTo>
                <a:cubicBezTo>
                  <a:pt x="2112" y="464"/>
                  <a:pt x="2160" y="560"/>
                  <a:pt x="2208" y="624"/>
                </a:cubicBezTo>
                <a:cubicBezTo>
                  <a:pt x="2256" y="688"/>
                  <a:pt x="2320" y="736"/>
                  <a:pt x="2352" y="768"/>
                </a:cubicBezTo>
                <a:cubicBezTo>
                  <a:pt x="2384" y="800"/>
                  <a:pt x="2384" y="800"/>
                  <a:pt x="2400" y="816"/>
                </a:cubicBezTo>
                <a:cubicBezTo>
                  <a:pt x="2416" y="832"/>
                  <a:pt x="2432" y="856"/>
                  <a:pt x="2448" y="864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52480" y="2285640"/>
            <a:ext cx="0" cy="426708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رائط الزمن 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2" name="" descr="&quot;Sharp Edges&quot; © Rob Pe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568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00"/>
            </a:outerShdw>
          </a:effectLst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4938840"/>
            <a:ext cx="8697960" cy="24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عريف المشكلة وتمييزها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تحليل المشكلة : أسبابها ؛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5228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66"/>
                </a:solidFill>
                <a:latin typeface="Times New Roman"/>
              </a:rPr>
              <a:t>خطوات تحليل المشكلة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7" name="" descr="&quot;Awesome Spectacle&quot; © Image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72000" y="152280"/>
            <a:ext cx="4572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إعداد قائمة بالحلول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-1096200" y="228600"/>
            <a:ext cx="7338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(طريقة العصف الذهني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2" name="" descr="&quot;Radiating Ripples&quot; © Hermann Eisenbeiss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5000"/>
          </a:bodyPr>
          <a:p>
            <a:pPr marL="29160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MCS SILVER"/>
              </a:rPr>
              <a:t> تقييم الحلول (حسب المعايير)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5" name="" descr="&quot;Country Road through Cades Cove, Great Smoky Mountains, Tennessee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819160" y="3047760"/>
            <a:ext cx="51814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99"/>
            </a:outerShdw>
          </a:effectLst>
        </p:spPr>
        <p:txBody>
          <a:bodyPr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اتخاذ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القرار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        ووضـــع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      خـــــطــــــة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00"/>
                </a:solidFill>
                <a:latin typeface="Times New Roman"/>
                <a:ea typeface="MCS SILVER"/>
              </a:rPr>
              <a:t> للتــنــــفـــيـــ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838080"/>
            <a:ext cx="7378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خطوات تحليل المشكلات :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2" name="" descr="&quot;South Pacific Sunset, Pohnpei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038480" y="457200"/>
            <a:ext cx="4367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99"/>
                </a:solidFill>
                <a:latin typeface="Times New Roman"/>
                <a:ea typeface="MCS SILVER"/>
              </a:rPr>
              <a:t> المتابعة والتقييم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762120" y="3580920"/>
            <a:ext cx="7958160" cy="266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ff"/>
            </a:outerShdw>
          </a:effectLst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هل وجود المشكلات ..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يعد مؤشراً سلبياً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00"/>
                </a:solidFill>
                <a:latin typeface="Times New Roman"/>
                <a:cs typeface="MCS SILVER"/>
              </a:rPr>
              <a:t>على العم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ff6699"/>
                </a:solidFill>
                <a:latin typeface="Times New Roman"/>
                <a:cs typeface="MCS SILVER"/>
              </a:rPr>
              <a:t>هل وجود المشكلات يعد مشكلة ؟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8" name="" descr="&quot;Afternoon Offshores, Hermosa Beach, California&quot; © Ron Romano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5181480" cy="297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80000"/>
          </a:bodyPr>
          <a:p>
            <a:pPr marL="2743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جرد وجود المشكلات أمر طبيعي ويدل على وجود عمل له خاصية التفاعل والاستمرارية والتجديد 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620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99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99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&quot;West Highlands, Scotland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8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t">
            <a:norm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أين توضع هذه الأدوات ؟؟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02000"/>
                </a:solidFill>
                <a:latin typeface="Times New Roman"/>
                <a:ea typeface="MCS SILVER"/>
              </a:rPr>
              <a:t> الأدوات هي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572000"/>
            <a:ext cx="7729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من؟ ماذا؟ أين؟ متى؟ كم؟ كيف؟ لماذا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837720" y="380520"/>
            <a:ext cx="7378920" cy="155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MCS SILVER"/>
              </a:rPr>
              <a:t>أدوات مهمة في حل المشكلات 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&quot;Paper Birch, White Mountains, New Hampshire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5607000"/>
            <a:ext cx="9144000" cy="1831680"/>
          </a:xfrm>
          <a:prstGeom prst="rect">
            <a:avLst/>
          </a:prstGeom>
          <a:solidFill>
            <a:srgbClr val="e3e2c7"/>
          </a:solidFill>
          <a:ln w="9360">
            <a:solidFill>
              <a:srgbClr val="3366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336600"/>
                </a:solidFill>
                <a:latin typeface="Albertus Extra Bold"/>
                <a:cs typeface="Simplified Arabic"/>
              </a:rPr>
              <a:t>إذا كانت المشكلات كثيرة بدرجة لافتة للنظر فهذا يدل على وجود خلل في جهة ما .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cc99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cccc99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&quot;La Jolla, Torrey Pines, San Diego, Californ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2280" y="3733920"/>
            <a:ext cx="48006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انتفاء المشاكل كلية يدل على انتفاء أصل العمل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0a500"/>
                </a:solidFill>
                <a:latin typeface="Times New Roman"/>
                <a:cs typeface="MCS SILVER"/>
              </a:rPr>
              <a:t>أو ضعف المتابعة والتقيي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05040" y="52560"/>
            <a:ext cx="4342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  <a:cs typeface="MCS SILVER"/>
              </a:rPr>
              <a:t>الجواب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 </a:t>
            </a:r>
            <a:r>
              <a:rPr b="1" lang="ar-SA" sz="8000" spc="-1" strike="noStrike">
                <a:solidFill>
                  <a:srgbClr val="003366"/>
                </a:solidFill>
                <a:latin typeface="Times New Roman"/>
                <a:ea typeface="MCS SILVER"/>
              </a:rPr>
              <a:t>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&quot;Tahquamenon Falls, Michigan&quot; © American Stock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819520" y="3200400"/>
            <a:ext cx="63244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/>
            </a:outerShdw>
          </a:effectLst>
        </p:spPr>
        <p:txBody>
          <a:bodyPr anchor="t">
            <a:normAutofit fontScale="88000"/>
          </a:bodyPr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cs typeface="MCS SILVER"/>
              </a:rPr>
              <a:t>إن العلم يهتف بالعمل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فإن أجابه.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Times New Roman"/>
                <a:ea typeface="MCS SILVER"/>
              </a:rPr>
              <a:t> وإلاَّ ارتحل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006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cs typeface="MCS SILVER"/>
              </a:rPr>
              <a:t>وأخيراً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 </a:t>
            </a:r>
            <a:r>
              <a:rPr b="1" i="1" lang="ar-SA" sz="9600" spc="-1" strike="noStrike">
                <a:solidFill>
                  <a:srgbClr val="eaeaea"/>
                </a:solidFill>
                <a:latin typeface="Times New Roman"/>
                <a:ea typeface="MCS SILVER"/>
              </a:rPr>
              <a:t>: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&quot;Magnetic Island National Park, North Queen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981080" y="3276720"/>
            <a:ext cx="693432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الرياض: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11643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MCS SILVER"/>
              </a:rPr>
              <a:t>ص.ب: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MCS SILVER"/>
              </a:rPr>
              <a:t>91973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islamway.n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hm_assaf@yahoo.c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eaeaea"/>
                </a:solidFill>
                <a:latin typeface="Times New Roman"/>
                <a:cs typeface="MCS SILVER"/>
              </a:rPr>
              <a:t>العنوان البريدي :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4" name="" descr="&quot;Lanikai Beach, Oahu, Hawaii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7958160" cy="304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99"/>
            </a:outerShdw>
          </a:effectLst>
        </p:spPr>
        <p:txBody>
          <a:bodyPr anchor="t">
            <a:normAutofit fontScale="81000"/>
          </a:bodyPr>
          <a:p>
            <a:pPr marL="277560" indent="0" algn="ctr" rtl="1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شكراً جزيلاً لحسن استماعكم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وشكراًً لمصمم الشرائح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e3e2c7"/>
                </a:solidFill>
                <a:latin typeface="Times New Roman"/>
                <a:cs typeface="MCS SILVER"/>
              </a:rPr>
              <a:t>بمهارة   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&quot;Lord Howe Island, Australi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لديه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علومات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عن المشكلة وأطرافها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صاحب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خبرة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لمشورة والرأي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جيد 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التدريب والمهارة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ملتزم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بالتنفيذ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Times New Roman"/>
                <a:cs typeface="MCS SILVER"/>
              </a:rPr>
              <a:t>من </a:t>
            </a:r>
            <a:r>
              <a:rPr b="1" lang="ar-SA" sz="3400" spc="-1" strike="noStrike" u="sng">
                <a:solidFill>
                  <a:srgbClr val="ffff00"/>
                </a:solidFill>
                <a:uFillTx/>
                <a:latin typeface="Times New Roman"/>
                <a:cs typeface="MCS SILVER"/>
              </a:rPr>
              <a:t>يراد</a:t>
            </a:r>
            <a:r>
              <a:rPr b="1" lang="ar-SA" sz="34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تدريبه وتهيئته 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2000"/>
            </a:outerShdw>
          </a:effectLst>
        </p:spPr>
        <p:txBody>
          <a:bodyPr anchor="t">
            <a:noAutofit/>
          </a:bodyPr>
          <a:p>
            <a:pPr marL="343080" indent="0" algn="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CS SILVER"/>
              </a:rPr>
              <a:t>من الذي يدعى لحل المشاكل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Times New Roman"/>
                <a:ea typeface="MCS SILVER"/>
              </a:rPr>
              <a:t> لا بد أن تتوافر فيمن يحضر جلسات مناقشة المشاكل وحلها صفة أو أكثر مما يلي 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&quot;Burning Candle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3366"/>
                </a:solidFill>
                <a:latin typeface="Times New Roman"/>
              </a:rPr>
              <a:t>الحل الجماعي :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666880"/>
            <a:ext cx="609624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إيجا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و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99cc"/>
                </a:solidFill>
                <a:latin typeface="Times New Roman"/>
                <a:cs typeface="MCS SILVER"/>
              </a:rPr>
              <a:t>سلبيــات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&quot;California Poppies, Siskiyou Mountains, near Ashland, Oregon&quot; © Scott Harding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90560" y="2133360"/>
            <a:ext cx="655308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نوع الأفكار وتلاقحه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imes New Roman"/>
                <a:ea typeface="MCS SILVER"/>
              </a:rPr>
              <a:t> تعدد مصادر المعلومات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5346720" y="-360"/>
            <a:ext cx="3797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3366"/>
                </a:solidFill>
                <a:latin typeface="Times New Roman"/>
              </a:rPr>
              <a:t>الإيجابيّات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&quot;Fall Garden, Poulsbo, Washington&quot; © Don Paul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4800600"/>
            <a:ext cx="795816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77000"/>
          </a:bodyPr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cs typeface="MCS SILVER"/>
              </a:rPr>
              <a:t>أقل تحيزا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263880" indent="0" algn="ctr" rtl="1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  <a:ea typeface="MCS SILVER"/>
              </a:rPr>
              <a:t> فرصة للتواصل والتدري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&quot;Pilot Mountain, North Carolina&quot; © Will &amp; Deni McIntyre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533520"/>
            <a:ext cx="3429000" cy="27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التزام 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2000"/>
                </a:solidFill>
                <a:latin typeface="Times New Roman"/>
                <a:cs typeface="MCS SILVER"/>
              </a:rPr>
              <a:t>العالي بالأداء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3:11:25Z</dcterms:modified>
  <cp:revision>171</cp:revision>
  <dc:subject/>
  <dc:title>المشكلات الإدارية وكيفية علاجها ؟</dc:title>
</cp:coreProperties>
</file>